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E31-BB43-40F9-B026-772F0B4D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DC0-2479-40F9-8470-4439AC87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AE6-F51D-41DD-9456-B60F8C1C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1A2-0952-4A32-8FC2-79241335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A9BA-33EB-48FF-9B25-677B1B87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84B6-CA0C-43F9-8E35-10AB8859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1C32-8994-40EF-A2C0-DDA3CC74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27F4-CE10-4085-8F15-22E8FBDD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7233-1A0F-493C-8F5A-28F43EFF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196D-3907-49FC-9C8F-8E7A5874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A4BA-AE8F-4C7E-A27F-8B888BF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C72-1706-4CF8-8E19-3D306A16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CA33-F12B-4B65-8481-24A74D7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1F4C-ADAA-4FE5-85E4-F634765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06A7-1493-4B77-A160-F348E2E8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823E-754B-46E3-9145-B10DEA40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C3C7-815B-406C-AD97-A9F829B1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D17-FC04-42C3-AEE9-F3D9BD18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DFA-B198-420B-AA9F-1536CA14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346-149D-4F69-A225-9B03966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228-287D-479C-884A-3F86D9E0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8B1-EB25-410F-9A75-3A2C1F3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9D0-4EAD-4B01-AFE3-B1DB3062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E2C-95CB-4783-855C-CD238C7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CCC1-5C96-45A2-B5DD-5929732245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CCF2-4FB5-4576-A1C9-CCE25E1C1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g 225 #1-1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  for x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5760" y="2035080"/>
            <a:ext cx="714240" cy="3063960"/>
          </a:xfrm>
          <a:custGeom>
            <a:avLst/>
            <a:gdLst/>
            <a:ahLst/>
            <a:rect l="l" t="t" r="r" b="b"/>
            <a:pathLst>
              <a:path w="1985" h="8509">
                <a:moveTo>
                  <a:pt x="1712" y="5655"/>
                </a:moveTo>
                <a:cubicBezTo>
                  <a:pt x="1700" y="5689"/>
                  <a:pt x="1701" y="5722"/>
                  <a:pt x="1687" y="5755"/>
                </a:cubicBezTo>
                <a:cubicBezTo>
                  <a:pt x="1656" y="5825"/>
                  <a:pt x="1618" y="5884"/>
                  <a:pt x="1588" y="5953"/>
                </a:cubicBezTo>
                <a:cubicBezTo>
                  <a:pt x="1534" y="6076"/>
                  <a:pt x="1477" y="6198"/>
                  <a:pt x="1439" y="6325"/>
                </a:cubicBezTo>
                <a:cubicBezTo>
                  <a:pt x="1400" y="6455"/>
                  <a:pt x="1333" y="6588"/>
                  <a:pt x="1315" y="6722"/>
                </a:cubicBezTo>
                <a:cubicBezTo>
                  <a:pt x="1289" y="6921"/>
                  <a:pt x="1265" y="7115"/>
                  <a:pt x="1265" y="7317"/>
                </a:cubicBezTo>
                <a:cubicBezTo>
                  <a:pt x="1265" y="7494"/>
                  <a:pt x="1279" y="7663"/>
                  <a:pt x="1290" y="7838"/>
                </a:cubicBezTo>
                <a:cubicBezTo>
                  <a:pt x="1302" y="8021"/>
                  <a:pt x="1345" y="8162"/>
                  <a:pt x="1389" y="8334"/>
                </a:cubicBezTo>
                <a:cubicBezTo>
                  <a:pt x="1438" y="8524"/>
                  <a:pt x="1498" y="8678"/>
                  <a:pt x="1588" y="8855"/>
                </a:cubicBezTo>
                <a:cubicBezTo>
                  <a:pt x="1698" y="9071"/>
                  <a:pt x="1810" y="9265"/>
                  <a:pt x="1960" y="9451"/>
                </a:cubicBezTo>
                <a:cubicBezTo>
                  <a:pt x="2086" y="9606"/>
                  <a:pt x="2279" y="9719"/>
                  <a:pt x="2406" y="9823"/>
                </a:cubicBezTo>
                <a:cubicBezTo>
                  <a:pt x="2454" y="9862"/>
                  <a:pt x="2466" y="9957"/>
                  <a:pt x="2530" y="9971"/>
                </a:cubicBezTo>
                <a:cubicBezTo>
                  <a:pt x="2530" y="9955"/>
                  <a:pt x="2530" y="9938"/>
                  <a:pt x="2530" y="9922"/>
                </a:cubicBezTo>
              </a:path>
              <a:path w="1985" h="8509">
                <a:moveTo>
                  <a:pt x="2183" y="7317"/>
                </a:moveTo>
                <a:cubicBezTo>
                  <a:pt x="2166" y="7344"/>
                  <a:pt x="2154" y="7352"/>
                  <a:pt x="2133" y="7392"/>
                </a:cubicBezTo>
                <a:cubicBezTo>
                  <a:pt x="2086" y="7480"/>
                  <a:pt x="2032" y="7555"/>
                  <a:pt x="1984" y="7640"/>
                </a:cubicBezTo>
                <a:cubicBezTo>
                  <a:pt x="1927" y="7740"/>
                  <a:pt x="1880" y="7854"/>
                  <a:pt x="1836" y="7962"/>
                </a:cubicBezTo>
                <a:cubicBezTo>
                  <a:pt x="1777" y="8108"/>
                  <a:pt x="1747" y="8255"/>
                  <a:pt x="1712" y="8409"/>
                </a:cubicBezTo>
                <a:cubicBezTo>
                  <a:pt x="1673" y="8581"/>
                  <a:pt x="1647" y="8754"/>
                  <a:pt x="1637" y="8930"/>
                </a:cubicBezTo>
                <a:cubicBezTo>
                  <a:pt x="1625" y="9137"/>
                  <a:pt x="1599" y="9343"/>
                  <a:pt x="1588" y="9550"/>
                </a:cubicBezTo>
                <a:cubicBezTo>
                  <a:pt x="1574" y="9827"/>
                  <a:pt x="1614" y="10145"/>
                  <a:pt x="1637" y="10418"/>
                </a:cubicBezTo>
                <a:cubicBezTo>
                  <a:pt x="1665" y="10754"/>
                  <a:pt x="1729" y="11081"/>
                  <a:pt x="1786" y="11410"/>
                </a:cubicBezTo>
                <a:cubicBezTo>
                  <a:pt x="1869" y="11886"/>
                  <a:pt x="2027" y="12290"/>
                  <a:pt x="2232" y="12725"/>
                </a:cubicBezTo>
                <a:cubicBezTo>
                  <a:pt x="2334" y="12942"/>
                  <a:pt x="2455" y="13141"/>
                  <a:pt x="2580" y="13345"/>
                </a:cubicBezTo>
                <a:cubicBezTo>
                  <a:pt x="2701" y="13543"/>
                  <a:pt x="2854" y="13713"/>
                  <a:pt x="3001" y="13891"/>
                </a:cubicBezTo>
                <a:cubicBezTo>
                  <a:pt x="3070" y="13974"/>
                  <a:pt x="3165" y="14060"/>
                  <a:pt x="3225" y="14139"/>
                </a:cubicBezTo>
                <a:cubicBezTo>
                  <a:pt x="3225" y="14147"/>
                  <a:pt x="3225" y="14155"/>
                  <a:pt x="3225" y="14163"/>
                </a:cubicBezTo>
                <a:cubicBezTo>
                  <a:pt x="3225" y="14127"/>
                  <a:pt x="3229" y="14125"/>
                  <a:pt x="3225" y="14089"/>
                </a:cubicBezTo>
                <a:cubicBezTo>
                  <a:pt x="3225" y="14072"/>
                  <a:pt x="3225" y="14056"/>
                  <a:pt x="3225" y="140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84160" y="3187800"/>
            <a:ext cx="1536840" cy="662040"/>
          </a:xfrm>
          <a:custGeom>
            <a:avLst/>
            <a:gdLst/>
            <a:ahLst/>
            <a:rect l="l" t="t" r="r" b="b"/>
            <a:pathLst>
              <a:path w="4267" h="1837">
                <a:moveTo>
                  <a:pt x="2629" y="9550"/>
                </a:moveTo>
                <a:cubicBezTo>
                  <a:pt x="2745" y="9571"/>
                  <a:pt x="2732" y="9634"/>
                  <a:pt x="2828" y="9674"/>
                </a:cubicBezTo>
                <a:cubicBezTo>
                  <a:pt x="2896" y="9702"/>
                  <a:pt x="2922" y="9757"/>
                  <a:pt x="2977" y="9823"/>
                </a:cubicBezTo>
                <a:cubicBezTo>
                  <a:pt x="3037" y="9896"/>
                  <a:pt x="3015" y="9921"/>
                  <a:pt x="3001" y="9996"/>
                </a:cubicBezTo>
                <a:cubicBezTo>
                  <a:pt x="2989" y="10061"/>
                  <a:pt x="2915" y="10146"/>
                  <a:pt x="2853" y="10195"/>
                </a:cubicBezTo>
                <a:cubicBezTo>
                  <a:pt x="2795" y="10241"/>
                  <a:pt x="2672" y="10285"/>
                  <a:pt x="2629" y="10344"/>
                </a:cubicBezTo>
                <a:cubicBezTo>
                  <a:pt x="2565" y="10432"/>
                  <a:pt x="2541" y="10492"/>
                  <a:pt x="2456" y="10567"/>
                </a:cubicBezTo>
              </a:path>
              <a:path w="4267" h="1837">
                <a:moveTo>
                  <a:pt x="3522" y="9153"/>
                </a:moveTo>
                <a:cubicBezTo>
                  <a:pt x="3585" y="9153"/>
                  <a:pt x="3584" y="9160"/>
                  <a:pt x="3646" y="9153"/>
                </a:cubicBezTo>
                <a:cubicBezTo>
                  <a:pt x="3759" y="9140"/>
                  <a:pt x="4228" y="9206"/>
                  <a:pt x="4142" y="9103"/>
                </a:cubicBezTo>
              </a:path>
              <a:path w="4267" h="1837">
                <a:moveTo>
                  <a:pt x="3572" y="9153"/>
                </a:moveTo>
                <a:cubicBezTo>
                  <a:pt x="3527" y="9257"/>
                  <a:pt x="3489" y="9344"/>
                  <a:pt x="3473" y="9451"/>
                </a:cubicBezTo>
                <a:cubicBezTo>
                  <a:pt x="3464" y="9512"/>
                  <a:pt x="3451" y="9561"/>
                  <a:pt x="3448" y="9624"/>
                </a:cubicBezTo>
                <a:cubicBezTo>
                  <a:pt x="3445" y="9682"/>
                  <a:pt x="3454" y="9667"/>
                  <a:pt x="3473" y="9699"/>
                </a:cubicBezTo>
                <a:cubicBezTo>
                  <a:pt x="3481" y="9691"/>
                  <a:pt x="3530" y="9635"/>
                  <a:pt x="3547" y="9624"/>
                </a:cubicBezTo>
                <a:cubicBezTo>
                  <a:pt x="3572" y="9608"/>
                  <a:pt x="3652" y="9615"/>
                  <a:pt x="3671" y="9599"/>
                </a:cubicBezTo>
                <a:cubicBezTo>
                  <a:pt x="3761" y="9524"/>
                  <a:pt x="3706" y="9562"/>
                  <a:pt x="3820" y="9599"/>
                </a:cubicBezTo>
                <a:cubicBezTo>
                  <a:pt x="3903" y="9626"/>
                  <a:pt x="3910" y="9587"/>
                  <a:pt x="3969" y="9674"/>
                </a:cubicBezTo>
                <a:cubicBezTo>
                  <a:pt x="4032" y="9767"/>
                  <a:pt x="4080" y="9786"/>
                  <a:pt x="4118" y="9897"/>
                </a:cubicBezTo>
                <a:cubicBezTo>
                  <a:pt x="4151" y="9993"/>
                  <a:pt x="4186" y="10091"/>
                  <a:pt x="4167" y="10195"/>
                </a:cubicBezTo>
                <a:cubicBezTo>
                  <a:pt x="4153" y="10272"/>
                  <a:pt x="4118" y="10377"/>
                  <a:pt x="4043" y="10418"/>
                </a:cubicBezTo>
                <a:cubicBezTo>
                  <a:pt x="3986" y="10449"/>
                  <a:pt x="3911" y="10443"/>
                  <a:pt x="3845" y="10443"/>
                </a:cubicBezTo>
                <a:cubicBezTo>
                  <a:pt x="3785" y="10443"/>
                  <a:pt x="3671" y="10449"/>
                  <a:pt x="3621" y="10418"/>
                </a:cubicBezTo>
                <a:cubicBezTo>
                  <a:pt x="3595" y="10402"/>
                  <a:pt x="3493" y="10338"/>
                  <a:pt x="3497" y="10294"/>
                </a:cubicBezTo>
                <a:cubicBezTo>
                  <a:pt x="3497" y="10269"/>
                  <a:pt x="3497" y="10261"/>
                  <a:pt x="3522" y="10269"/>
                </a:cubicBezTo>
              </a:path>
              <a:path w="4267" h="1837">
                <a:moveTo>
                  <a:pt x="4539" y="9773"/>
                </a:moveTo>
                <a:cubicBezTo>
                  <a:pt x="4575" y="9773"/>
                  <a:pt x="4884" y="9773"/>
                  <a:pt x="4862" y="9773"/>
                </a:cubicBezTo>
              </a:path>
              <a:path w="4267" h="1837">
                <a:moveTo>
                  <a:pt x="4490" y="9971"/>
                </a:moveTo>
                <a:cubicBezTo>
                  <a:pt x="4544" y="9985"/>
                  <a:pt x="4562" y="10027"/>
                  <a:pt x="4614" y="10046"/>
                </a:cubicBezTo>
                <a:cubicBezTo>
                  <a:pt x="4678" y="10069"/>
                  <a:pt x="4793" y="10046"/>
                  <a:pt x="4862" y="10046"/>
                </a:cubicBezTo>
              </a:path>
              <a:path w="4267" h="1837">
                <a:moveTo>
                  <a:pt x="5383" y="9302"/>
                </a:moveTo>
                <a:cubicBezTo>
                  <a:pt x="5543" y="9302"/>
                  <a:pt x="5661" y="9291"/>
                  <a:pt x="5804" y="9252"/>
                </a:cubicBezTo>
                <a:cubicBezTo>
                  <a:pt x="5855" y="9238"/>
                  <a:pt x="5906" y="9239"/>
                  <a:pt x="5953" y="9227"/>
                </a:cubicBezTo>
              </a:path>
              <a:path w="4267" h="1837">
                <a:moveTo>
                  <a:pt x="5333" y="9475"/>
                </a:moveTo>
                <a:cubicBezTo>
                  <a:pt x="5297" y="9572"/>
                  <a:pt x="5255" y="9675"/>
                  <a:pt x="5234" y="9773"/>
                </a:cubicBezTo>
                <a:cubicBezTo>
                  <a:pt x="5234" y="9790"/>
                  <a:pt x="5234" y="9806"/>
                  <a:pt x="5234" y="9823"/>
                </a:cubicBezTo>
                <a:cubicBezTo>
                  <a:pt x="5289" y="9807"/>
                  <a:pt x="5284" y="9765"/>
                  <a:pt x="5333" y="9748"/>
                </a:cubicBezTo>
                <a:cubicBezTo>
                  <a:pt x="5395" y="9726"/>
                  <a:pt x="5409" y="9694"/>
                  <a:pt x="5482" y="9674"/>
                </a:cubicBezTo>
                <a:cubicBezTo>
                  <a:pt x="5609" y="9639"/>
                  <a:pt x="5691" y="9688"/>
                  <a:pt x="5755" y="9748"/>
                </a:cubicBezTo>
                <a:cubicBezTo>
                  <a:pt x="5825" y="9813"/>
                  <a:pt x="5868" y="9897"/>
                  <a:pt x="5904" y="9996"/>
                </a:cubicBezTo>
                <a:cubicBezTo>
                  <a:pt x="5938" y="10090"/>
                  <a:pt x="5963" y="10243"/>
                  <a:pt x="5953" y="10344"/>
                </a:cubicBezTo>
                <a:cubicBezTo>
                  <a:pt x="5945" y="10428"/>
                  <a:pt x="5943" y="10600"/>
                  <a:pt x="5854" y="10641"/>
                </a:cubicBezTo>
                <a:cubicBezTo>
                  <a:pt x="5804" y="10664"/>
                  <a:pt x="5700" y="10724"/>
                  <a:pt x="5631" y="10691"/>
                </a:cubicBezTo>
                <a:cubicBezTo>
                  <a:pt x="5553" y="10654"/>
                  <a:pt x="5475" y="10650"/>
                  <a:pt x="5407" y="10592"/>
                </a:cubicBezTo>
                <a:cubicBezTo>
                  <a:pt x="5375" y="10565"/>
                  <a:pt x="5359" y="10524"/>
                  <a:pt x="5333" y="10492"/>
                </a:cubicBezTo>
              </a:path>
              <a:path w="4267" h="1837">
                <a:moveTo>
                  <a:pt x="6201" y="8855"/>
                </a:moveTo>
                <a:cubicBezTo>
                  <a:pt x="6267" y="8921"/>
                  <a:pt x="6312" y="8994"/>
                  <a:pt x="6350" y="9079"/>
                </a:cubicBezTo>
                <a:cubicBezTo>
                  <a:pt x="6383" y="9153"/>
                  <a:pt x="6459" y="9244"/>
                  <a:pt x="6524" y="9302"/>
                </a:cubicBezTo>
                <a:cubicBezTo>
                  <a:pt x="6579" y="9351"/>
                  <a:pt x="6625" y="9376"/>
                  <a:pt x="6697" y="9376"/>
                </a:cubicBezTo>
                <a:cubicBezTo>
                  <a:pt x="6705" y="9376"/>
                  <a:pt x="6714" y="9376"/>
                  <a:pt x="6722" y="9376"/>
                </a:cubicBezTo>
              </a:path>
              <a:path w="4267" h="1837">
                <a:moveTo>
                  <a:pt x="6400" y="8855"/>
                </a:moveTo>
                <a:cubicBezTo>
                  <a:pt x="6289" y="9106"/>
                  <a:pt x="6189" y="9310"/>
                  <a:pt x="6028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74800" y="2374920"/>
            <a:ext cx="714240" cy="430200"/>
          </a:xfrm>
          <a:custGeom>
            <a:avLst/>
            <a:gdLst/>
            <a:ahLst/>
            <a:rect l="l" t="t" r="r" b="b"/>
            <a:pathLst>
              <a:path w="1985" h="1192">
                <a:moveTo>
                  <a:pt x="3497" y="7590"/>
                </a:moveTo>
                <a:cubicBezTo>
                  <a:pt x="3549" y="7590"/>
                  <a:pt x="3580" y="7578"/>
                  <a:pt x="3621" y="7565"/>
                </a:cubicBezTo>
                <a:cubicBezTo>
                  <a:pt x="3665" y="7552"/>
                  <a:pt x="3709" y="7546"/>
                  <a:pt x="3746" y="7516"/>
                </a:cubicBezTo>
                <a:cubicBezTo>
                  <a:pt x="3770" y="7497"/>
                  <a:pt x="3833" y="7464"/>
                  <a:pt x="3845" y="7441"/>
                </a:cubicBezTo>
                <a:cubicBezTo>
                  <a:pt x="3868" y="7396"/>
                  <a:pt x="3838" y="7330"/>
                  <a:pt x="3820" y="7317"/>
                </a:cubicBezTo>
                <a:cubicBezTo>
                  <a:pt x="3772" y="7282"/>
                  <a:pt x="3769" y="7290"/>
                  <a:pt x="3721" y="7317"/>
                </a:cubicBezTo>
                <a:cubicBezTo>
                  <a:pt x="3650" y="7357"/>
                  <a:pt x="3636" y="7354"/>
                  <a:pt x="3572" y="7417"/>
                </a:cubicBezTo>
                <a:cubicBezTo>
                  <a:pt x="3502" y="7486"/>
                  <a:pt x="3469" y="7543"/>
                  <a:pt x="3448" y="7640"/>
                </a:cubicBezTo>
                <a:cubicBezTo>
                  <a:pt x="3436" y="7696"/>
                  <a:pt x="3447" y="7719"/>
                  <a:pt x="3473" y="7739"/>
                </a:cubicBezTo>
                <a:cubicBezTo>
                  <a:pt x="3525" y="7779"/>
                  <a:pt x="3525" y="7789"/>
                  <a:pt x="3597" y="7789"/>
                </a:cubicBezTo>
                <a:cubicBezTo>
                  <a:pt x="3628" y="7789"/>
                  <a:pt x="3719" y="7778"/>
                  <a:pt x="3746" y="7764"/>
                </a:cubicBezTo>
                <a:cubicBezTo>
                  <a:pt x="3757" y="7758"/>
                  <a:pt x="3839" y="7728"/>
                  <a:pt x="3820" y="7714"/>
                </a:cubicBezTo>
                <a:cubicBezTo>
                  <a:pt x="3812" y="7714"/>
                  <a:pt x="3803" y="7714"/>
                  <a:pt x="3795" y="7714"/>
                </a:cubicBezTo>
              </a:path>
              <a:path w="1985" h="1192">
                <a:moveTo>
                  <a:pt x="2456" y="6598"/>
                </a:moveTo>
                <a:cubicBezTo>
                  <a:pt x="2535" y="6649"/>
                  <a:pt x="2553" y="6647"/>
                  <a:pt x="2629" y="6672"/>
                </a:cubicBezTo>
                <a:cubicBezTo>
                  <a:pt x="2716" y="6701"/>
                  <a:pt x="2795" y="6760"/>
                  <a:pt x="2877" y="6796"/>
                </a:cubicBezTo>
                <a:cubicBezTo>
                  <a:pt x="3002" y="6852"/>
                  <a:pt x="3145" y="6855"/>
                  <a:pt x="3274" y="6896"/>
                </a:cubicBezTo>
                <a:cubicBezTo>
                  <a:pt x="3538" y="6979"/>
                  <a:pt x="3800" y="7072"/>
                  <a:pt x="4068" y="7144"/>
                </a:cubicBezTo>
                <a:cubicBezTo>
                  <a:pt x="4156" y="7168"/>
                  <a:pt x="4254" y="7203"/>
                  <a:pt x="4341" y="7218"/>
                </a:cubicBezTo>
                <a:cubicBezTo>
                  <a:pt x="4382" y="7218"/>
                  <a:pt x="4390" y="7218"/>
                  <a:pt x="4415" y="7218"/>
                </a:cubicBezTo>
                <a:cubicBezTo>
                  <a:pt x="4364" y="7192"/>
                  <a:pt x="4327" y="7176"/>
                  <a:pt x="4266" y="7169"/>
                </a:cubicBezTo>
              </a:path>
              <a:path w="1985" h="1192">
                <a:moveTo>
                  <a:pt x="2431" y="7317"/>
                </a:moveTo>
                <a:cubicBezTo>
                  <a:pt x="2443" y="7399"/>
                  <a:pt x="2433" y="7354"/>
                  <a:pt x="2456" y="7392"/>
                </a:cubicBezTo>
                <a:cubicBezTo>
                  <a:pt x="2510" y="7380"/>
                  <a:pt x="2524" y="7370"/>
                  <a:pt x="2580" y="7342"/>
                </a:cubicBezTo>
                <a:cubicBezTo>
                  <a:pt x="2675" y="7294"/>
                  <a:pt x="2776" y="7250"/>
                  <a:pt x="2877" y="7218"/>
                </a:cubicBezTo>
                <a:cubicBezTo>
                  <a:pt x="3043" y="7165"/>
                  <a:pt x="3202" y="7086"/>
                  <a:pt x="3373" y="7045"/>
                </a:cubicBezTo>
                <a:cubicBezTo>
                  <a:pt x="3558" y="7000"/>
                  <a:pt x="3736" y="6949"/>
                  <a:pt x="3919" y="6896"/>
                </a:cubicBezTo>
                <a:cubicBezTo>
                  <a:pt x="4035" y="6862"/>
                  <a:pt x="4151" y="6834"/>
                  <a:pt x="4266" y="6796"/>
                </a:cubicBezTo>
                <a:cubicBezTo>
                  <a:pt x="4407" y="6750"/>
                  <a:pt x="4310" y="6794"/>
                  <a:pt x="4341" y="6722"/>
                </a:cubicBezTo>
                <a:cubicBezTo>
                  <a:pt x="4306" y="6713"/>
                  <a:pt x="4300" y="6696"/>
                  <a:pt x="4242" y="6722"/>
                </a:cubicBezTo>
                <a:cubicBezTo>
                  <a:pt x="4192" y="6747"/>
                  <a:pt x="4175" y="6755"/>
                  <a:pt x="4142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9920" y="4054320"/>
            <a:ext cx="973080" cy="1955880"/>
          </a:xfrm>
          <a:custGeom>
            <a:avLst/>
            <a:gdLst/>
            <a:ahLst/>
            <a:rect l="l" t="t" r="r" b="b"/>
            <a:pathLst>
              <a:path w="2704" h="5434">
                <a:moveTo>
                  <a:pt x="3746" y="11261"/>
                </a:moveTo>
                <a:cubicBezTo>
                  <a:pt x="3781" y="11360"/>
                  <a:pt x="3821" y="11442"/>
                  <a:pt x="3870" y="11534"/>
                </a:cubicBezTo>
                <a:cubicBezTo>
                  <a:pt x="3936" y="11658"/>
                  <a:pt x="3996" y="11786"/>
                  <a:pt x="4068" y="11906"/>
                </a:cubicBezTo>
                <a:cubicBezTo>
                  <a:pt x="4126" y="12002"/>
                  <a:pt x="4189" y="12098"/>
                  <a:pt x="4266" y="12179"/>
                </a:cubicBezTo>
                <a:cubicBezTo>
                  <a:pt x="4329" y="12246"/>
                  <a:pt x="4317" y="12216"/>
                  <a:pt x="4390" y="12229"/>
                </a:cubicBezTo>
              </a:path>
              <a:path w="2704" h="5434">
                <a:moveTo>
                  <a:pt x="4167" y="11311"/>
                </a:moveTo>
                <a:cubicBezTo>
                  <a:pt x="4104" y="11453"/>
                  <a:pt x="4038" y="11592"/>
                  <a:pt x="3969" y="11733"/>
                </a:cubicBezTo>
                <a:cubicBezTo>
                  <a:pt x="3915" y="11845"/>
                  <a:pt x="3846" y="11943"/>
                  <a:pt x="3795" y="12055"/>
                </a:cubicBezTo>
                <a:cubicBezTo>
                  <a:pt x="3771" y="12107"/>
                  <a:pt x="3666" y="12218"/>
                  <a:pt x="3721" y="12204"/>
                </a:cubicBezTo>
                <a:cubicBezTo>
                  <a:pt x="3746" y="12179"/>
                  <a:pt x="3754" y="12171"/>
                  <a:pt x="3770" y="12154"/>
                </a:cubicBezTo>
              </a:path>
              <a:path w="2704" h="5434">
                <a:moveTo>
                  <a:pt x="4242" y="11683"/>
                </a:moveTo>
                <a:cubicBezTo>
                  <a:pt x="4391" y="11683"/>
                  <a:pt x="4539" y="11683"/>
                  <a:pt x="4688" y="11683"/>
                </a:cubicBezTo>
              </a:path>
              <a:path w="2704" h="5434">
                <a:moveTo>
                  <a:pt x="4390" y="11931"/>
                </a:moveTo>
                <a:cubicBezTo>
                  <a:pt x="4528" y="11948"/>
                  <a:pt x="4649" y="11956"/>
                  <a:pt x="4787" y="11956"/>
                </a:cubicBezTo>
              </a:path>
              <a:path w="2704" h="5434">
                <a:moveTo>
                  <a:pt x="5308" y="11385"/>
                </a:moveTo>
                <a:cubicBezTo>
                  <a:pt x="5308" y="11470"/>
                  <a:pt x="5273" y="11550"/>
                  <a:pt x="5283" y="11633"/>
                </a:cubicBezTo>
                <a:cubicBezTo>
                  <a:pt x="5305" y="11806"/>
                  <a:pt x="5329" y="11979"/>
                  <a:pt x="5333" y="12154"/>
                </a:cubicBezTo>
                <a:cubicBezTo>
                  <a:pt x="5336" y="12297"/>
                  <a:pt x="5358" y="12431"/>
                  <a:pt x="5358" y="12576"/>
                </a:cubicBezTo>
                <a:cubicBezTo>
                  <a:pt x="5358" y="12601"/>
                  <a:pt x="5358" y="12625"/>
                  <a:pt x="5358" y="12650"/>
                </a:cubicBezTo>
              </a:path>
              <a:path w="2704" h="5434">
                <a:moveTo>
                  <a:pt x="3994" y="14089"/>
                </a:moveTo>
                <a:cubicBezTo>
                  <a:pt x="4034" y="14130"/>
                  <a:pt x="4084" y="14175"/>
                  <a:pt x="4142" y="14188"/>
                </a:cubicBezTo>
                <a:cubicBezTo>
                  <a:pt x="4219" y="14205"/>
                  <a:pt x="4266" y="14222"/>
                  <a:pt x="4341" y="14188"/>
                </a:cubicBezTo>
                <a:cubicBezTo>
                  <a:pt x="4407" y="14158"/>
                  <a:pt x="4437" y="14134"/>
                  <a:pt x="4440" y="14064"/>
                </a:cubicBezTo>
                <a:cubicBezTo>
                  <a:pt x="4444" y="13983"/>
                  <a:pt x="4424" y="13973"/>
                  <a:pt x="4366" y="13915"/>
                </a:cubicBezTo>
                <a:cubicBezTo>
                  <a:pt x="4337" y="13886"/>
                  <a:pt x="4236" y="13856"/>
                  <a:pt x="4192" y="13866"/>
                </a:cubicBezTo>
                <a:cubicBezTo>
                  <a:pt x="4111" y="13884"/>
                  <a:pt x="4056" y="13906"/>
                  <a:pt x="3994" y="13965"/>
                </a:cubicBezTo>
                <a:cubicBezTo>
                  <a:pt x="3925" y="14031"/>
                  <a:pt x="3838" y="14101"/>
                  <a:pt x="3795" y="14188"/>
                </a:cubicBezTo>
                <a:cubicBezTo>
                  <a:pt x="3733" y="14312"/>
                  <a:pt x="3717" y="14454"/>
                  <a:pt x="3746" y="14585"/>
                </a:cubicBezTo>
                <a:cubicBezTo>
                  <a:pt x="3766" y="14677"/>
                  <a:pt x="3838" y="14781"/>
                  <a:pt x="3919" y="14833"/>
                </a:cubicBezTo>
                <a:cubicBezTo>
                  <a:pt x="4048" y="14917"/>
                  <a:pt x="4107" y="14903"/>
                  <a:pt x="4242" y="14858"/>
                </a:cubicBezTo>
              </a:path>
              <a:path w="2704" h="5434">
                <a:moveTo>
                  <a:pt x="4663" y="13345"/>
                </a:moveTo>
                <a:cubicBezTo>
                  <a:pt x="4623" y="13467"/>
                  <a:pt x="4545" y="13632"/>
                  <a:pt x="4539" y="13767"/>
                </a:cubicBezTo>
                <a:cubicBezTo>
                  <a:pt x="4536" y="13831"/>
                  <a:pt x="4563" y="13942"/>
                  <a:pt x="4614" y="13990"/>
                </a:cubicBezTo>
                <a:cubicBezTo>
                  <a:pt x="4638" y="14012"/>
                  <a:pt x="4756" y="14049"/>
                  <a:pt x="4787" y="14039"/>
                </a:cubicBezTo>
                <a:cubicBezTo>
                  <a:pt x="4842" y="14021"/>
                  <a:pt x="4873" y="13969"/>
                  <a:pt x="4887" y="13915"/>
                </a:cubicBezTo>
                <a:cubicBezTo>
                  <a:pt x="4897" y="13875"/>
                  <a:pt x="4886" y="13805"/>
                  <a:pt x="4837" y="13791"/>
                </a:cubicBezTo>
                <a:cubicBezTo>
                  <a:pt x="4793" y="13778"/>
                  <a:pt x="4724" y="13792"/>
                  <a:pt x="4688" y="13816"/>
                </a:cubicBezTo>
                <a:cubicBezTo>
                  <a:pt x="4625" y="13858"/>
                  <a:pt x="4640" y="13909"/>
                  <a:pt x="4614" y="13965"/>
                </a:cubicBezTo>
                <a:cubicBezTo>
                  <a:pt x="4587" y="14024"/>
                  <a:pt x="4607" y="14075"/>
                  <a:pt x="4589" y="14139"/>
                </a:cubicBezTo>
                <a:cubicBezTo>
                  <a:pt x="4581" y="14155"/>
                  <a:pt x="4572" y="14172"/>
                  <a:pt x="4564" y="14188"/>
                </a:cubicBezTo>
              </a:path>
              <a:path w="2704" h="5434">
                <a:moveTo>
                  <a:pt x="4812" y="14436"/>
                </a:moveTo>
                <a:cubicBezTo>
                  <a:pt x="4889" y="14444"/>
                  <a:pt x="4931" y="14461"/>
                  <a:pt x="5011" y="14461"/>
                </a:cubicBezTo>
                <a:cubicBezTo>
                  <a:pt x="5027" y="14461"/>
                  <a:pt x="5044" y="14461"/>
                  <a:pt x="5060" y="14461"/>
                </a:cubicBezTo>
              </a:path>
              <a:path w="2704" h="5434">
                <a:moveTo>
                  <a:pt x="4762" y="14684"/>
                </a:moveTo>
                <a:cubicBezTo>
                  <a:pt x="4814" y="14743"/>
                  <a:pt x="4865" y="14838"/>
                  <a:pt x="4961" y="14833"/>
                </a:cubicBezTo>
                <a:cubicBezTo>
                  <a:pt x="4978" y="14825"/>
                  <a:pt x="4994" y="14816"/>
                  <a:pt x="5011" y="14808"/>
                </a:cubicBezTo>
              </a:path>
              <a:path w="2704" h="5434">
                <a:moveTo>
                  <a:pt x="5333" y="14585"/>
                </a:moveTo>
                <a:cubicBezTo>
                  <a:pt x="5415" y="14585"/>
                  <a:pt x="5531" y="14605"/>
                  <a:pt x="5606" y="14560"/>
                </a:cubicBezTo>
                <a:cubicBezTo>
                  <a:pt x="5653" y="14531"/>
                  <a:pt x="5677" y="14460"/>
                  <a:pt x="5680" y="14412"/>
                </a:cubicBezTo>
                <a:cubicBezTo>
                  <a:pt x="5683" y="14359"/>
                  <a:pt x="5691" y="14290"/>
                  <a:pt x="5631" y="14263"/>
                </a:cubicBezTo>
                <a:cubicBezTo>
                  <a:pt x="5570" y="14236"/>
                  <a:pt x="5465" y="14263"/>
                  <a:pt x="5407" y="14288"/>
                </a:cubicBezTo>
                <a:cubicBezTo>
                  <a:pt x="5342" y="14316"/>
                  <a:pt x="5297" y="14378"/>
                  <a:pt x="5259" y="14436"/>
                </a:cubicBezTo>
                <a:cubicBezTo>
                  <a:pt x="5207" y="14515"/>
                  <a:pt x="5186" y="14618"/>
                  <a:pt x="5184" y="14709"/>
                </a:cubicBezTo>
                <a:cubicBezTo>
                  <a:pt x="5181" y="14852"/>
                  <a:pt x="5214" y="14951"/>
                  <a:pt x="5308" y="15056"/>
                </a:cubicBezTo>
                <a:cubicBezTo>
                  <a:pt x="5382" y="15139"/>
                  <a:pt x="5467" y="15182"/>
                  <a:pt x="5581" y="15156"/>
                </a:cubicBezTo>
                <a:cubicBezTo>
                  <a:pt x="5598" y="15148"/>
                  <a:pt x="5614" y="15139"/>
                  <a:pt x="5631" y="15131"/>
                </a:cubicBezTo>
              </a:path>
              <a:path w="2704" h="5434">
                <a:moveTo>
                  <a:pt x="5879" y="13519"/>
                </a:moveTo>
                <a:cubicBezTo>
                  <a:pt x="5932" y="13639"/>
                  <a:pt x="5996" y="13786"/>
                  <a:pt x="6077" y="13891"/>
                </a:cubicBezTo>
                <a:cubicBezTo>
                  <a:pt x="6134" y="13965"/>
                  <a:pt x="6240" y="14123"/>
                  <a:pt x="6325" y="14163"/>
                </a:cubicBezTo>
                <a:cubicBezTo>
                  <a:pt x="6366" y="14182"/>
                  <a:pt x="6397" y="14159"/>
                  <a:pt x="6424" y="14139"/>
                </a:cubicBezTo>
              </a:path>
              <a:path w="2704" h="5434">
                <a:moveTo>
                  <a:pt x="6201" y="13643"/>
                </a:moveTo>
                <a:cubicBezTo>
                  <a:pt x="6016" y="13798"/>
                  <a:pt x="5836" y="13954"/>
                  <a:pt x="5655" y="14114"/>
                </a:cubicBezTo>
              </a:path>
              <a:path w="2704" h="5434">
                <a:moveTo>
                  <a:pt x="4192" y="15677"/>
                </a:moveTo>
                <a:cubicBezTo>
                  <a:pt x="4224" y="15830"/>
                  <a:pt x="4261" y="15986"/>
                  <a:pt x="4341" y="16123"/>
                </a:cubicBezTo>
                <a:cubicBezTo>
                  <a:pt x="4424" y="16264"/>
                  <a:pt x="4519" y="16354"/>
                  <a:pt x="4663" y="16421"/>
                </a:cubicBezTo>
              </a:path>
              <a:path w="2704" h="5434">
                <a:moveTo>
                  <a:pt x="4490" y="15677"/>
                </a:moveTo>
                <a:cubicBezTo>
                  <a:pt x="4358" y="15880"/>
                  <a:pt x="4277" y="16046"/>
                  <a:pt x="4167" y="16247"/>
                </a:cubicBezTo>
                <a:cubicBezTo>
                  <a:pt x="4129" y="16317"/>
                  <a:pt x="4072" y="16399"/>
                  <a:pt x="4043" y="16470"/>
                </a:cubicBezTo>
                <a:cubicBezTo>
                  <a:pt x="4043" y="16478"/>
                  <a:pt x="4043" y="16487"/>
                  <a:pt x="4043" y="16495"/>
                </a:cubicBezTo>
              </a:path>
              <a:path w="2704" h="5434">
                <a:moveTo>
                  <a:pt x="4514" y="15974"/>
                </a:moveTo>
                <a:cubicBezTo>
                  <a:pt x="4636" y="15983"/>
                  <a:pt x="4762" y="16041"/>
                  <a:pt x="4887" y="16024"/>
                </a:cubicBezTo>
                <a:cubicBezTo>
                  <a:pt x="4912" y="16016"/>
                  <a:pt x="4936" y="16007"/>
                  <a:pt x="4961" y="15999"/>
                </a:cubicBezTo>
              </a:path>
              <a:path w="2704" h="5434">
                <a:moveTo>
                  <a:pt x="4564" y="16247"/>
                </a:moveTo>
                <a:cubicBezTo>
                  <a:pt x="4744" y="16324"/>
                  <a:pt x="4760" y="16331"/>
                  <a:pt x="4936" y="16272"/>
                </a:cubicBezTo>
              </a:path>
              <a:path w="2704" h="5434">
                <a:moveTo>
                  <a:pt x="5259" y="15850"/>
                </a:moveTo>
                <a:cubicBezTo>
                  <a:pt x="5170" y="16009"/>
                  <a:pt x="5090" y="16117"/>
                  <a:pt x="5085" y="16297"/>
                </a:cubicBezTo>
                <a:cubicBezTo>
                  <a:pt x="5082" y="16407"/>
                  <a:pt x="5125" y="16560"/>
                  <a:pt x="5209" y="16644"/>
                </a:cubicBezTo>
                <a:cubicBezTo>
                  <a:pt x="5253" y="16687"/>
                  <a:pt x="5335" y="16705"/>
                  <a:pt x="5383" y="16669"/>
                </a:cubicBezTo>
                <a:cubicBezTo>
                  <a:pt x="5456" y="16615"/>
                  <a:pt x="5500" y="16587"/>
                  <a:pt x="5507" y="16495"/>
                </a:cubicBezTo>
                <a:cubicBezTo>
                  <a:pt x="5513" y="16418"/>
                  <a:pt x="5413" y="16398"/>
                  <a:pt x="5358" y="16396"/>
                </a:cubicBezTo>
                <a:cubicBezTo>
                  <a:pt x="5273" y="16392"/>
                  <a:pt x="5133" y="16423"/>
                  <a:pt x="5060" y="16470"/>
                </a:cubicBezTo>
                <a:cubicBezTo>
                  <a:pt x="5019" y="16496"/>
                  <a:pt x="4996" y="16530"/>
                  <a:pt x="4986" y="165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60640" y="4973760"/>
            <a:ext cx="169560" cy="312480"/>
          </a:xfrm>
          <a:custGeom>
            <a:avLst/>
            <a:gdLst/>
            <a:ahLst/>
            <a:rect l="l" t="t" r="r" b="b"/>
            <a:pathLst>
              <a:path w="472" h="869">
                <a:moveTo>
                  <a:pt x="3249" y="13816"/>
                </a:moveTo>
                <a:cubicBezTo>
                  <a:pt x="3289" y="13885"/>
                  <a:pt x="3341" y="13933"/>
                  <a:pt x="3398" y="13990"/>
                </a:cubicBezTo>
                <a:cubicBezTo>
                  <a:pt x="3474" y="14065"/>
                  <a:pt x="3577" y="14135"/>
                  <a:pt x="3646" y="14213"/>
                </a:cubicBezTo>
                <a:cubicBezTo>
                  <a:pt x="3673" y="14244"/>
                  <a:pt x="3718" y="14318"/>
                  <a:pt x="3696" y="14362"/>
                </a:cubicBezTo>
                <a:cubicBezTo>
                  <a:pt x="3675" y="14405"/>
                  <a:pt x="3565" y="14467"/>
                  <a:pt x="3522" y="14486"/>
                </a:cubicBezTo>
                <a:cubicBezTo>
                  <a:pt x="3433" y="14525"/>
                  <a:pt x="3312" y="14558"/>
                  <a:pt x="3249" y="14635"/>
                </a:cubicBezTo>
                <a:cubicBezTo>
                  <a:pt x="3241" y="14651"/>
                  <a:pt x="3233" y="14668"/>
                  <a:pt x="3225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e that a calculator assumes all logs are base 1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 calculator to evalu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 – L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70000" y="650088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3249" y="18058"/>
                </a:moveTo>
                <a:cubicBezTo>
                  <a:pt x="3260" y="18091"/>
                  <a:pt x="3285" y="18083"/>
                  <a:pt x="3249" y="180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7200" y="1660680"/>
            <a:ext cx="741600" cy="1009440"/>
          </a:xfrm>
          <a:custGeom>
            <a:avLst/>
            <a:gdLst/>
            <a:ahLst/>
            <a:rect l="l" t="t" r="r" b="b"/>
            <a:pathLst>
              <a:path w="2060" h="2804">
                <a:moveTo>
                  <a:pt x="4018" y="6201"/>
                </a:moveTo>
                <a:cubicBezTo>
                  <a:pt x="4018" y="6132"/>
                  <a:pt x="4021" y="6242"/>
                  <a:pt x="4018" y="6251"/>
                </a:cubicBezTo>
                <a:cubicBezTo>
                  <a:pt x="3993" y="6324"/>
                  <a:pt x="3977" y="6377"/>
                  <a:pt x="3944" y="6449"/>
                </a:cubicBezTo>
                <a:cubicBezTo>
                  <a:pt x="3901" y="6544"/>
                  <a:pt x="3854" y="6622"/>
                  <a:pt x="3820" y="6722"/>
                </a:cubicBezTo>
                <a:cubicBezTo>
                  <a:pt x="3787" y="6820"/>
                  <a:pt x="3770" y="6892"/>
                  <a:pt x="3770" y="6995"/>
                </a:cubicBezTo>
                <a:cubicBezTo>
                  <a:pt x="3770" y="7102"/>
                  <a:pt x="3772" y="7194"/>
                  <a:pt x="3795" y="7293"/>
                </a:cubicBezTo>
                <a:cubicBezTo>
                  <a:pt x="3806" y="7341"/>
                  <a:pt x="3851" y="7349"/>
                  <a:pt x="3870" y="7392"/>
                </a:cubicBezTo>
                <a:cubicBezTo>
                  <a:pt x="3886" y="7428"/>
                  <a:pt x="3896" y="7417"/>
                  <a:pt x="3944" y="7417"/>
                </a:cubicBezTo>
                <a:cubicBezTo>
                  <a:pt x="3952" y="7417"/>
                  <a:pt x="3961" y="7417"/>
                  <a:pt x="3969" y="7417"/>
                </a:cubicBezTo>
              </a:path>
              <a:path w="2060" h="2804">
                <a:moveTo>
                  <a:pt x="5432" y="4614"/>
                </a:moveTo>
                <a:cubicBezTo>
                  <a:pt x="5411" y="4651"/>
                  <a:pt x="5401" y="4702"/>
                  <a:pt x="5383" y="4738"/>
                </a:cubicBezTo>
                <a:cubicBezTo>
                  <a:pt x="5353" y="4797"/>
                  <a:pt x="5376" y="4846"/>
                  <a:pt x="5358" y="4911"/>
                </a:cubicBezTo>
                <a:cubicBezTo>
                  <a:pt x="5334" y="4995"/>
                  <a:pt x="5314" y="5074"/>
                  <a:pt x="5283" y="5159"/>
                </a:cubicBezTo>
                <a:cubicBezTo>
                  <a:pt x="5244" y="5264"/>
                  <a:pt x="5250" y="5355"/>
                  <a:pt x="5259" y="5457"/>
                </a:cubicBezTo>
                <a:cubicBezTo>
                  <a:pt x="5268" y="5558"/>
                  <a:pt x="5291" y="5629"/>
                  <a:pt x="5358" y="5705"/>
                </a:cubicBezTo>
                <a:cubicBezTo>
                  <a:pt x="5426" y="5782"/>
                  <a:pt x="5504" y="5841"/>
                  <a:pt x="5581" y="5904"/>
                </a:cubicBezTo>
                <a:cubicBezTo>
                  <a:pt x="5598" y="5920"/>
                  <a:pt x="5614" y="5937"/>
                  <a:pt x="5631" y="5953"/>
                </a:cubicBezTo>
              </a:path>
              <a:path w="2060" h="2804">
                <a:moveTo>
                  <a:pt x="5482" y="6846"/>
                </a:moveTo>
                <a:cubicBezTo>
                  <a:pt x="5599" y="6846"/>
                  <a:pt x="5720" y="6862"/>
                  <a:pt x="5829" y="6821"/>
                </a:cubicBezTo>
              </a:path>
              <a:path w="2060" h="2804">
                <a:moveTo>
                  <a:pt x="5606" y="7094"/>
                </a:moveTo>
                <a:cubicBezTo>
                  <a:pt x="5693" y="7123"/>
                  <a:pt x="5722" y="7137"/>
                  <a:pt x="5804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63840" y="2320920"/>
            <a:ext cx="465120" cy="903240"/>
          </a:xfrm>
          <a:custGeom>
            <a:avLst/>
            <a:gdLst/>
            <a:ahLst/>
            <a:rect l="l" t="t" r="r" b="b"/>
            <a:pathLst>
              <a:path w="1291" h="2506">
                <a:moveTo>
                  <a:pt x="6846" y="7342"/>
                </a:moveTo>
                <a:cubicBezTo>
                  <a:pt x="6885" y="7342"/>
                  <a:pt x="6871" y="7326"/>
                  <a:pt x="6871" y="7293"/>
                </a:cubicBezTo>
              </a:path>
              <a:path w="1291" h="2506">
                <a:moveTo>
                  <a:pt x="7293" y="6672"/>
                </a:moveTo>
                <a:cubicBezTo>
                  <a:pt x="7284" y="6805"/>
                  <a:pt x="7253" y="6938"/>
                  <a:pt x="7243" y="7069"/>
                </a:cubicBezTo>
                <a:cubicBezTo>
                  <a:pt x="7237" y="7153"/>
                  <a:pt x="7189" y="7304"/>
                  <a:pt x="7268" y="7367"/>
                </a:cubicBezTo>
                <a:cubicBezTo>
                  <a:pt x="7307" y="7398"/>
                  <a:pt x="7394" y="7405"/>
                  <a:pt x="7441" y="7392"/>
                </a:cubicBezTo>
                <a:cubicBezTo>
                  <a:pt x="7507" y="7373"/>
                  <a:pt x="7558" y="7275"/>
                  <a:pt x="7590" y="7218"/>
                </a:cubicBezTo>
                <a:cubicBezTo>
                  <a:pt x="7611" y="7180"/>
                  <a:pt x="7637" y="7089"/>
                  <a:pt x="7615" y="7045"/>
                </a:cubicBezTo>
                <a:cubicBezTo>
                  <a:pt x="7607" y="7037"/>
                  <a:pt x="7598" y="7028"/>
                  <a:pt x="7590" y="7020"/>
                </a:cubicBezTo>
                <a:cubicBezTo>
                  <a:pt x="7529" y="7032"/>
                  <a:pt x="7479" y="7065"/>
                  <a:pt x="7441" y="7119"/>
                </a:cubicBezTo>
                <a:cubicBezTo>
                  <a:pt x="7417" y="7154"/>
                  <a:pt x="7397" y="7252"/>
                  <a:pt x="7417" y="7293"/>
                </a:cubicBezTo>
                <a:cubicBezTo>
                  <a:pt x="7434" y="7327"/>
                  <a:pt x="7462" y="7317"/>
                  <a:pt x="7491" y="7317"/>
                </a:cubicBezTo>
              </a:path>
              <a:path w="1291" h="2506">
                <a:moveTo>
                  <a:pt x="8136" y="6524"/>
                </a:moveTo>
                <a:cubicBezTo>
                  <a:pt x="8099" y="6458"/>
                  <a:pt x="8087" y="6432"/>
                  <a:pt x="8012" y="6474"/>
                </a:cubicBezTo>
                <a:cubicBezTo>
                  <a:pt x="7920" y="6525"/>
                  <a:pt x="7883" y="6583"/>
                  <a:pt x="7838" y="6672"/>
                </a:cubicBezTo>
                <a:cubicBezTo>
                  <a:pt x="7818" y="6712"/>
                  <a:pt x="7812" y="6796"/>
                  <a:pt x="7863" y="6821"/>
                </a:cubicBezTo>
                <a:cubicBezTo>
                  <a:pt x="7908" y="6843"/>
                  <a:pt x="7954" y="6814"/>
                  <a:pt x="7987" y="6796"/>
                </a:cubicBezTo>
                <a:cubicBezTo>
                  <a:pt x="8035" y="6769"/>
                  <a:pt x="8097" y="6709"/>
                  <a:pt x="8111" y="6648"/>
                </a:cubicBezTo>
                <a:cubicBezTo>
                  <a:pt x="8121" y="6607"/>
                  <a:pt x="8111" y="6531"/>
                  <a:pt x="8111" y="6573"/>
                </a:cubicBezTo>
                <a:cubicBezTo>
                  <a:pt x="8102" y="6686"/>
                  <a:pt x="8066" y="6782"/>
                  <a:pt x="8062" y="6896"/>
                </a:cubicBezTo>
                <a:cubicBezTo>
                  <a:pt x="8059" y="6997"/>
                  <a:pt x="8104" y="7090"/>
                  <a:pt x="8111" y="7193"/>
                </a:cubicBezTo>
                <a:cubicBezTo>
                  <a:pt x="8114" y="7234"/>
                  <a:pt x="8136" y="7247"/>
                  <a:pt x="8136" y="7293"/>
                </a:cubicBezTo>
                <a:cubicBezTo>
                  <a:pt x="8136" y="7339"/>
                  <a:pt x="8119" y="7316"/>
                  <a:pt x="8111" y="7293"/>
                </a:cubicBezTo>
              </a:path>
              <a:path w="1291" h="2506">
                <a:moveTo>
                  <a:pt x="7590" y="8632"/>
                </a:moveTo>
                <a:cubicBezTo>
                  <a:pt x="7664" y="8632"/>
                  <a:pt x="7718" y="8653"/>
                  <a:pt x="7789" y="8657"/>
                </a:cubicBezTo>
                <a:cubicBezTo>
                  <a:pt x="7805" y="8657"/>
                  <a:pt x="7822" y="8657"/>
                  <a:pt x="7838" y="8657"/>
                </a:cubicBezTo>
              </a:path>
              <a:path w="1291" h="2506">
                <a:moveTo>
                  <a:pt x="7689" y="8954"/>
                </a:moveTo>
                <a:cubicBezTo>
                  <a:pt x="7772" y="8914"/>
                  <a:pt x="7827" y="8941"/>
                  <a:pt x="7913" y="8954"/>
                </a:cubicBezTo>
                <a:cubicBezTo>
                  <a:pt x="7954" y="8954"/>
                  <a:pt x="7962" y="8954"/>
                  <a:pt x="7987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06800" y="2963880"/>
            <a:ext cx="617400" cy="331920"/>
          </a:xfrm>
          <a:custGeom>
            <a:avLst/>
            <a:gdLst/>
            <a:ahLst/>
            <a:rect l="l" t="t" r="r" b="b"/>
            <a:pathLst>
              <a:path w="1713" h="919">
                <a:moveTo>
                  <a:pt x="8632" y="8954"/>
                </a:moveTo>
                <a:cubicBezTo>
                  <a:pt x="8665" y="8954"/>
                  <a:pt x="8674" y="8962"/>
                  <a:pt x="8657" y="9004"/>
                </a:cubicBezTo>
              </a:path>
              <a:path w="1713" h="919">
                <a:moveTo>
                  <a:pt x="9426" y="8409"/>
                </a:moveTo>
                <a:cubicBezTo>
                  <a:pt x="9449" y="8368"/>
                  <a:pt x="9500" y="8301"/>
                  <a:pt x="9451" y="8260"/>
                </a:cubicBezTo>
                <a:cubicBezTo>
                  <a:pt x="9418" y="8233"/>
                  <a:pt x="9338" y="8242"/>
                  <a:pt x="9302" y="8260"/>
                </a:cubicBezTo>
                <a:cubicBezTo>
                  <a:pt x="9222" y="8300"/>
                  <a:pt x="9132" y="8369"/>
                  <a:pt x="9079" y="8434"/>
                </a:cubicBezTo>
                <a:cubicBezTo>
                  <a:pt x="9038" y="8484"/>
                  <a:pt x="9050" y="8533"/>
                  <a:pt x="9079" y="8558"/>
                </a:cubicBezTo>
                <a:cubicBezTo>
                  <a:pt x="9111" y="8586"/>
                  <a:pt x="9182" y="8595"/>
                  <a:pt x="9227" y="8582"/>
                </a:cubicBezTo>
                <a:cubicBezTo>
                  <a:pt x="9293" y="8563"/>
                  <a:pt x="9316" y="8541"/>
                  <a:pt x="9351" y="8483"/>
                </a:cubicBezTo>
                <a:cubicBezTo>
                  <a:pt x="9392" y="8415"/>
                  <a:pt x="9416" y="8411"/>
                  <a:pt x="9475" y="8359"/>
                </a:cubicBezTo>
                <a:cubicBezTo>
                  <a:pt x="9475" y="8528"/>
                  <a:pt x="9469" y="8691"/>
                  <a:pt x="9451" y="8855"/>
                </a:cubicBezTo>
                <a:cubicBezTo>
                  <a:pt x="9442" y="8937"/>
                  <a:pt x="9520" y="9009"/>
                  <a:pt x="9475" y="9079"/>
                </a:cubicBezTo>
                <a:cubicBezTo>
                  <a:pt x="9462" y="9100"/>
                  <a:pt x="9492" y="8911"/>
                  <a:pt x="9500" y="8880"/>
                </a:cubicBezTo>
              </a:path>
              <a:path w="1713" h="919">
                <a:moveTo>
                  <a:pt x="9773" y="8334"/>
                </a:moveTo>
                <a:cubicBezTo>
                  <a:pt x="9903" y="8318"/>
                  <a:pt x="10016" y="8310"/>
                  <a:pt x="10145" y="8310"/>
                </a:cubicBezTo>
                <a:cubicBezTo>
                  <a:pt x="10199" y="8310"/>
                  <a:pt x="10255" y="8301"/>
                  <a:pt x="10269" y="8260"/>
                </a:cubicBezTo>
              </a:path>
              <a:path w="1713" h="919">
                <a:moveTo>
                  <a:pt x="9798" y="8359"/>
                </a:moveTo>
                <a:cubicBezTo>
                  <a:pt x="9749" y="8442"/>
                  <a:pt x="9637" y="8546"/>
                  <a:pt x="9748" y="8632"/>
                </a:cubicBezTo>
                <a:cubicBezTo>
                  <a:pt x="9756" y="8632"/>
                  <a:pt x="9765" y="8632"/>
                  <a:pt x="9773" y="8632"/>
                </a:cubicBezTo>
                <a:cubicBezTo>
                  <a:pt x="9841" y="8613"/>
                  <a:pt x="9864" y="8571"/>
                  <a:pt x="9947" y="8558"/>
                </a:cubicBezTo>
                <a:cubicBezTo>
                  <a:pt x="10068" y="8538"/>
                  <a:pt x="10094" y="8598"/>
                  <a:pt x="10195" y="8632"/>
                </a:cubicBezTo>
                <a:cubicBezTo>
                  <a:pt x="10264" y="8655"/>
                  <a:pt x="10327" y="8763"/>
                  <a:pt x="10344" y="8855"/>
                </a:cubicBezTo>
                <a:cubicBezTo>
                  <a:pt x="10366" y="8971"/>
                  <a:pt x="10341" y="9032"/>
                  <a:pt x="10269" y="9079"/>
                </a:cubicBezTo>
                <a:cubicBezTo>
                  <a:pt x="10198" y="9125"/>
                  <a:pt x="10208" y="9153"/>
                  <a:pt x="10120" y="9153"/>
                </a:cubicBezTo>
                <a:cubicBezTo>
                  <a:pt x="10021" y="9153"/>
                  <a:pt x="9922" y="9153"/>
                  <a:pt x="9823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3960" y="3517920"/>
            <a:ext cx="903240" cy="403200"/>
          </a:xfrm>
          <a:custGeom>
            <a:avLst/>
            <a:gdLst/>
            <a:ahLst/>
            <a:rect l="l" t="t" r="r" b="b"/>
            <a:pathLst>
              <a:path w="2507" h="1117">
                <a:moveTo>
                  <a:pt x="11013" y="10046"/>
                </a:moveTo>
                <a:cubicBezTo>
                  <a:pt x="11137" y="10046"/>
                  <a:pt x="11261" y="10046"/>
                  <a:pt x="11385" y="10046"/>
                </a:cubicBezTo>
              </a:path>
              <a:path w="2507" h="1117">
                <a:moveTo>
                  <a:pt x="11187" y="10344"/>
                </a:moveTo>
                <a:cubicBezTo>
                  <a:pt x="11294" y="10390"/>
                  <a:pt x="11357" y="10430"/>
                  <a:pt x="11460" y="10443"/>
                </a:cubicBezTo>
              </a:path>
              <a:path w="2507" h="1117">
                <a:moveTo>
                  <a:pt x="11981" y="9971"/>
                </a:moveTo>
                <a:cubicBezTo>
                  <a:pt x="12036" y="9946"/>
                  <a:pt x="12117" y="9908"/>
                  <a:pt x="12179" y="9897"/>
                </a:cubicBezTo>
                <a:cubicBezTo>
                  <a:pt x="12246" y="9885"/>
                  <a:pt x="12371" y="9882"/>
                  <a:pt x="12427" y="9922"/>
                </a:cubicBezTo>
                <a:cubicBezTo>
                  <a:pt x="12504" y="9977"/>
                  <a:pt x="12530" y="10046"/>
                  <a:pt x="12576" y="10120"/>
                </a:cubicBezTo>
                <a:cubicBezTo>
                  <a:pt x="12627" y="10201"/>
                  <a:pt x="12599" y="10325"/>
                  <a:pt x="12576" y="10418"/>
                </a:cubicBezTo>
                <a:cubicBezTo>
                  <a:pt x="12557" y="10496"/>
                  <a:pt x="12486" y="10616"/>
                  <a:pt x="12402" y="10641"/>
                </a:cubicBezTo>
                <a:cubicBezTo>
                  <a:pt x="12349" y="10657"/>
                  <a:pt x="12263" y="10641"/>
                  <a:pt x="12204" y="10641"/>
                </a:cubicBezTo>
                <a:cubicBezTo>
                  <a:pt x="12204" y="10577"/>
                  <a:pt x="12211" y="10526"/>
                  <a:pt x="12278" y="10492"/>
                </a:cubicBezTo>
                <a:cubicBezTo>
                  <a:pt x="12315" y="10473"/>
                  <a:pt x="12370" y="10544"/>
                  <a:pt x="12378" y="10567"/>
                </a:cubicBezTo>
                <a:cubicBezTo>
                  <a:pt x="12396" y="10617"/>
                  <a:pt x="12433" y="10668"/>
                  <a:pt x="12452" y="10716"/>
                </a:cubicBezTo>
                <a:cubicBezTo>
                  <a:pt x="12465" y="10749"/>
                  <a:pt x="12459" y="10740"/>
                  <a:pt x="12502" y="10740"/>
                </a:cubicBezTo>
              </a:path>
              <a:path w="2507" h="1117">
                <a:moveTo>
                  <a:pt x="12849" y="10641"/>
                </a:moveTo>
                <a:cubicBezTo>
                  <a:pt x="12911" y="10623"/>
                  <a:pt x="12905" y="10621"/>
                  <a:pt x="12948" y="10567"/>
                </a:cubicBezTo>
              </a:path>
              <a:path w="2507" h="1117">
                <a:moveTo>
                  <a:pt x="13345" y="9773"/>
                </a:moveTo>
                <a:cubicBezTo>
                  <a:pt x="13321" y="9927"/>
                  <a:pt x="13320" y="10043"/>
                  <a:pt x="13345" y="10195"/>
                </a:cubicBezTo>
                <a:cubicBezTo>
                  <a:pt x="13373" y="10367"/>
                  <a:pt x="13411" y="10484"/>
                  <a:pt x="13469" y="10641"/>
                </a:cubicBezTo>
                <a:cubicBezTo>
                  <a:pt x="13495" y="10711"/>
                  <a:pt x="13513" y="10791"/>
                  <a:pt x="13519" y="10864"/>
                </a:cubicBezTo>
                <a:cubicBezTo>
                  <a:pt x="13519" y="10872"/>
                  <a:pt x="13519" y="10881"/>
                  <a:pt x="13519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24080" y="2847960"/>
            <a:ext cx="339840" cy="1046160"/>
          </a:xfrm>
          <a:custGeom>
            <a:avLst/>
            <a:gdLst/>
            <a:ahLst/>
            <a:rect l="l" t="t" r="r" b="b"/>
            <a:pathLst>
              <a:path w="944" h="2903">
                <a:moveTo>
                  <a:pt x="6449" y="9525"/>
                </a:moveTo>
                <a:cubicBezTo>
                  <a:pt x="6409" y="9538"/>
                  <a:pt x="6429" y="9574"/>
                  <a:pt x="6400" y="9599"/>
                </a:cubicBezTo>
                <a:cubicBezTo>
                  <a:pt x="6332" y="9659"/>
                  <a:pt x="6352" y="9760"/>
                  <a:pt x="6300" y="9823"/>
                </a:cubicBezTo>
                <a:cubicBezTo>
                  <a:pt x="6226" y="9913"/>
                  <a:pt x="6193" y="10020"/>
                  <a:pt x="6176" y="10145"/>
                </a:cubicBezTo>
                <a:cubicBezTo>
                  <a:pt x="6165" y="10229"/>
                  <a:pt x="6165" y="10341"/>
                  <a:pt x="6201" y="10418"/>
                </a:cubicBezTo>
                <a:cubicBezTo>
                  <a:pt x="6236" y="10491"/>
                  <a:pt x="6285" y="10566"/>
                  <a:pt x="6325" y="10641"/>
                </a:cubicBezTo>
                <a:cubicBezTo>
                  <a:pt x="6363" y="10713"/>
                  <a:pt x="6364" y="10707"/>
                  <a:pt x="6375" y="10641"/>
                </a:cubicBezTo>
                <a:cubicBezTo>
                  <a:pt x="6375" y="10683"/>
                  <a:pt x="6383" y="10699"/>
                  <a:pt x="6350" y="10691"/>
                </a:cubicBezTo>
              </a:path>
              <a:path w="944" h="2903">
                <a:moveTo>
                  <a:pt x="6474" y="7913"/>
                </a:moveTo>
                <a:cubicBezTo>
                  <a:pt x="6427" y="7960"/>
                  <a:pt x="6435" y="7983"/>
                  <a:pt x="6400" y="8037"/>
                </a:cubicBezTo>
                <a:cubicBezTo>
                  <a:pt x="6341" y="8126"/>
                  <a:pt x="6328" y="8212"/>
                  <a:pt x="6300" y="8310"/>
                </a:cubicBezTo>
                <a:cubicBezTo>
                  <a:pt x="6276" y="8393"/>
                  <a:pt x="6260" y="8492"/>
                  <a:pt x="6276" y="8582"/>
                </a:cubicBezTo>
                <a:cubicBezTo>
                  <a:pt x="6293" y="8679"/>
                  <a:pt x="6315" y="8763"/>
                  <a:pt x="6350" y="8855"/>
                </a:cubicBezTo>
                <a:cubicBezTo>
                  <a:pt x="6370" y="8909"/>
                  <a:pt x="6413" y="9035"/>
                  <a:pt x="6449" y="9079"/>
                </a:cubicBezTo>
                <a:cubicBezTo>
                  <a:pt x="6485" y="9123"/>
                  <a:pt x="6509" y="9165"/>
                  <a:pt x="6524" y="9103"/>
                </a:cubicBezTo>
              </a:path>
              <a:path w="944" h="2903">
                <a:moveTo>
                  <a:pt x="6896" y="9376"/>
                </a:moveTo>
                <a:cubicBezTo>
                  <a:pt x="6929" y="9431"/>
                  <a:pt x="6930" y="9431"/>
                  <a:pt x="6970" y="9475"/>
                </a:cubicBezTo>
                <a:cubicBezTo>
                  <a:pt x="7018" y="9528"/>
                  <a:pt x="7004" y="9607"/>
                  <a:pt x="7020" y="9674"/>
                </a:cubicBezTo>
                <a:cubicBezTo>
                  <a:pt x="7043" y="9774"/>
                  <a:pt x="7072" y="9873"/>
                  <a:pt x="7094" y="9971"/>
                </a:cubicBezTo>
                <a:cubicBezTo>
                  <a:pt x="7119" y="10081"/>
                  <a:pt x="7119" y="10180"/>
                  <a:pt x="7119" y="10294"/>
                </a:cubicBezTo>
                <a:cubicBezTo>
                  <a:pt x="7119" y="10416"/>
                  <a:pt x="7091" y="10484"/>
                  <a:pt x="7069" y="10592"/>
                </a:cubicBezTo>
                <a:cubicBezTo>
                  <a:pt x="7057" y="10653"/>
                  <a:pt x="7055" y="10702"/>
                  <a:pt x="6995" y="10740"/>
                </a:cubicBezTo>
                <a:cubicBezTo>
                  <a:pt x="6955" y="10765"/>
                  <a:pt x="6917" y="10857"/>
                  <a:pt x="6896" y="10815"/>
                </a:cubicBezTo>
                <a:cubicBezTo>
                  <a:pt x="6896" y="10807"/>
                  <a:pt x="6896" y="10798"/>
                  <a:pt x="6896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660680"/>
            <a:ext cx="893880" cy="411120"/>
          </a:xfrm>
          <a:custGeom>
            <a:avLst/>
            <a:gdLst/>
            <a:ahLst/>
            <a:rect l="l" t="t" r="r" b="b"/>
            <a:pathLst>
              <a:path w="2482" h="1142">
                <a:moveTo>
                  <a:pt x="8260" y="5085"/>
                </a:moveTo>
                <a:cubicBezTo>
                  <a:pt x="8370" y="5079"/>
                  <a:pt x="8452" y="5060"/>
                  <a:pt x="8558" y="5060"/>
                </a:cubicBezTo>
              </a:path>
              <a:path w="2482" h="1142">
                <a:moveTo>
                  <a:pt x="8111" y="5283"/>
                </a:moveTo>
                <a:cubicBezTo>
                  <a:pt x="8225" y="5283"/>
                  <a:pt x="8327" y="5276"/>
                  <a:pt x="8434" y="5259"/>
                </a:cubicBezTo>
                <a:cubicBezTo>
                  <a:pt x="8512" y="5246"/>
                  <a:pt x="8519" y="5292"/>
                  <a:pt x="8533" y="5209"/>
                </a:cubicBezTo>
              </a:path>
              <a:path w="2482" h="1142">
                <a:moveTo>
                  <a:pt x="8930" y="4738"/>
                </a:moveTo>
                <a:cubicBezTo>
                  <a:pt x="8981" y="4682"/>
                  <a:pt x="9037" y="4593"/>
                  <a:pt x="9128" y="4614"/>
                </a:cubicBezTo>
                <a:cubicBezTo>
                  <a:pt x="9210" y="4633"/>
                  <a:pt x="9296" y="4711"/>
                  <a:pt x="9327" y="4787"/>
                </a:cubicBezTo>
                <a:cubicBezTo>
                  <a:pt x="9385" y="4928"/>
                  <a:pt x="9362" y="5020"/>
                  <a:pt x="9327" y="5159"/>
                </a:cubicBezTo>
                <a:cubicBezTo>
                  <a:pt x="9299" y="5268"/>
                  <a:pt x="9255" y="5351"/>
                  <a:pt x="9178" y="5432"/>
                </a:cubicBezTo>
                <a:cubicBezTo>
                  <a:pt x="9102" y="5512"/>
                  <a:pt x="9034" y="5531"/>
                  <a:pt x="8930" y="5531"/>
                </a:cubicBezTo>
                <a:cubicBezTo>
                  <a:pt x="8902" y="5531"/>
                  <a:pt x="8891" y="5529"/>
                  <a:pt x="8880" y="5507"/>
                </a:cubicBezTo>
                <a:cubicBezTo>
                  <a:pt x="8889" y="5447"/>
                  <a:pt x="8918" y="5369"/>
                  <a:pt x="8979" y="5333"/>
                </a:cubicBezTo>
                <a:cubicBezTo>
                  <a:pt x="9076" y="5276"/>
                  <a:pt x="9133" y="5318"/>
                  <a:pt x="9203" y="5383"/>
                </a:cubicBezTo>
                <a:cubicBezTo>
                  <a:pt x="9252" y="5428"/>
                  <a:pt x="9252" y="5469"/>
                  <a:pt x="9252" y="5531"/>
                </a:cubicBezTo>
                <a:cubicBezTo>
                  <a:pt x="9252" y="5574"/>
                  <a:pt x="9262" y="5569"/>
                  <a:pt x="9227" y="5581"/>
                </a:cubicBezTo>
              </a:path>
              <a:path w="2482" h="1142">
                <a:moveTo>
                  <a:pt x="9500" y="5407"/>
                </a:moveTo>
                <a:cubicBezTo>
                  <a:pt x="9500" y="5328"/>
                  <a:pt x="9545" y="5257"/>
                  <a:pt x="9575" y="5184"/>
                </a:cubicBezTo>
              </a:path>
              <a:path w="2482" h="1142">
                <a:moveTo>
                  <a:pt x="9823" y="4614"/>
                </a:moveTo>
                <a:cubicBezTo>
                  <a:pt x="9823" y="4794"/>
                  <a:pt x="9803" y="4959"/>
                  <a:pt x="9798" y="5135"/>
                </a:cubicBezTo>
                <a:cubicBezTo>
                  <a:pt x="9796" y="5223"/>
                  <a:pt x="9795" y="5347"/>
                  <a:pt x="9773" y="5432"/>
                </a:cubicBezTo>
                <a:cubicBezTo>
                  <a:pt x="9753" y="5473"/>
                  <a:pt x="9744" y="5479"/>
                  <a:pt x="9748" y="5507"/>
                </a:cubicBezTo>
                <a:cubicBezTo>
                  <a:pt x="9748" y="5406"/>
                  <a:pt x="9773" y="5357"/>
                  <a:pt x="9798" y="5259"/>
                </a:cubicBezTo>
                <a:cubicBezTo>
                  <a:pt x="9824" y="5157"/>
                  <a:pt x="9833" y="5121"/>
                  <a:pt x="9872" y="5060"/>
                </a:cubicBezTo>
              </a:path>
              <a:path w="2482" h="1142">
                <a:moveTo>
                  <a:pt x="10145" y="4688"/>
                </a:moveTo>
                <a:cubicBezTo>
                  <a:pt x="10159" y="4842"/>
                  <a:pt x="10149" y="4982"/>
                  <a:pt x="10120" y="5135"/>
                </a:cubicBezTo>
                <a:cubicBezTo>
                  <a:pt x="10103" y="5224"/>
                  <a:pt x="10028" y="5306"/>
                  <a:pt x="10120" y="5383"/>
                </a:cubicBezTo>
                <a:cubicBezTo>
                  <a:pt x="10202" y="5452"/>
                  <a:pt x="10271" y="5442"/>
                  <a:pt x="10368" y="5407"/>
                </a:cubicBezTo>
                <a:cubicBezTo>
                  <a:pt x="10468" y="5371"/>
                  <a:pt x="10520" y="5272"/>
                  <a:pt x="10567" y="5184"/>
                </a:cubicBezTo>
                <a:cubicBezTo>
                  <a:pt x="10575" y="5168"/>
                  <a:pt x="10584" y="5151"/>
                  <a:pt x="10592" y="5135"/>
                </a:cubicBezTo>
                <a:cubicBezTo>
                  <a:pt x="10497" y="5151"/>
                  <a:pt x="10454" y="5177"/>
                  <a:pt x="10368" y="5234"/>
                </a:cubicBezTo>
                <a:cubicBezTo>
                  <a:pt x="10255" y="5309"/>
                  <a:pt x="10179" y="5425"/>
                  <a:pt x="10096" y="5531"/>
                </a:cubicBezTo>
                <a:cubicBezTo>
                  <a:pt x="10031" y="5613"/>
                  <a:pt x="9970" y="5682"/>
                  <a:pt x="9897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ignment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 236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#1-41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esson 3.2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=1000(0.5)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/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people be able to live in the area surrounding Chernobyl in 205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ill the area surrounding Chernobyl be considered safe for human habi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17760" y="2867040"/>
            <a:ext cx="696960" cy="249120"/>
          </a:xfrm>
          <a:custGeom>
            <a:avLst/>
            <a:gdLst/>
            <a:ahLst/>
            <a:rect l="l" t="t" r="r" b="b"/>
            <a:pathLst>
              <a:path w="1936" h="696">
                <a:moveTo>
                  <a:pt x="4266" y="7962"/>
                </a:moveTo>
                <a:cubicBezTo>
                  <a:pt x="4266" y="8052"/>
                  <a:pt x="4252" y="8128"/>
                  <a:pt x="4242" y="8210"/>
                </a:cubicBezTo>
                <a:cubicBezTo>
                  <a:pt x="4233" y="8281"/>
                  <a:pt x="4221" y="8364"/>
                  <a:pt x="4217" y="8434"/>
                </a:cubicBezTo>
                <a:cubicBezTo>
                  <a:pt x="4212" y="8508"/>
                  <a:pt x="4217" y="8583"/>
                  <a:pt x="4217" y="8657"/>
                </a:cubicBezTo>
                <a:cubicBezTo>
                  <a:pt x="4263" y="8642"/>
                  <a:pt x="4266" y="8626"/>
                  <a:pt x="4291" y="8558"/>
                </a:cubicBezTo>
                <a:cubicBezTo>
                  <a:pt x="4299" y="8533"/>
                  <a:pt x="4308" y="8508"/>
                  <a:pt x="4316" y="8483"/>
                </a:cubicBezTo>
              </a:path>
              <a:path w="1936" h="696">
                <a:moveTo>
                  <a:pt x="4589" y="8086"/>
                </a:moveTo>
                <a:cubicBezTo>
                  <a:pt x="4562" y="8187"/>
                  <a:pt x="4519" y="8305"/>
                  <a:pt x="4514" y="8409"/>
                </a:cubicBezTo>
                <a:cubicBezTo>
                  <a:pt x="4511" y="8481"/>
                  <a:pt x="4542" y="8517"/>
                  <a:pt x="4589" y="8558"/>
                </a:cubicBezTo>
                <a:cubicBezTo>
                  <a:pt x="4648" y="8609"/>
                  <a:pt x="4675" y="8569"/>
                  <a:pt x="4738" y="8558"/>
                </a:cubicBezTo>
                <a:cubicBezTo>
                  <a:pt x="4822" y="8544"/>
                  <a:pt x="4859" y="8497"/>
                  <a:pt x="4911" y="8434"/>
                </a:cubicBezTo>
                <a:cubicBezTo>
                  <a:pt x="4943" y="8396"/>
                  <a:pt x="4948" y="8313"/>
                  <a:pt x="4936" y="8260"/>
                </a:cubicBezTo>
                <a:cubicBezTo>
                  <a:pt x="4922" y="8201"/>
                  <a:pt x="4873" y="8061"/>
                  <a:pt x="4812" y="8037"/>
                </a:cubicBezTo>
                <a:cubicBezTo>
                  <a:pt x="4762" y="8017"/>
                  <a:pt x="4685" y="8013"/>
                  <a:pt x="4638" y="8037"/>
                </a:cubicBezTo>
                <a:cubicBezTo>
                  <a:pt x="4611" y="8051"/>
                  <a:pt x="4571" y="8079"/>
                  <a:pt x="4564" y="8111"/>
                </a:cubicBezTo>
                <a:cubicBezTo>
                  <a:pt x="4553" y="8161"/>
                  <a:pt x="4562" y="8199"/>
                  <a:pt x="4589" y="8235"/>
                </a:cubicBezTo>
              </a:path>
              <a:path w="1936" h="696">
                <a:moveTo>
                  <a:pt x="5209" y="8012"/>
                </a:moveTo>
                <a:cubicBezTo>
                  <a:pt x="5158" y="8091"/>
                  <a:pt x="5096" y="8173"/>
                  <a:pt x="5060" y="8260"/>
                </a:cubicBezTo>
                <a:cubicBezTo>
                  <a:pt x="5028" y="8337"/>
                  <a:pt x="5021" y="8435"/>
                  <a:pt x="5060" y="8483"/>
                </a:cubicBezTo>
                <a:cubicBezTo>
                  <a:pt x="5117" y="8554"/>
                  <a:pt x="5115" y="8558"/>
                  <a:pt x="5209" y="8558"/>
                </a:cubicBezTo>
                <a:cubicBezTo>
                  <a:pt x="5277" y="8558"/>
                  <a:pt x="5337" y="8537"/>
                  <a:pt x="5383" y="8483"/>
                </a:cubicBezTo>
                <a:cubicBezTo>
                  <a:pt x="5422" y="8438"/>
                  <a:pt x="5453" y="8368"/>
                  <a:pt x="5457" y="8310"/>
                </a:cubicBezTo>
                <a:cubicBezTo>
                  <a:pt x="5463" y="8215"/>
                  <a:pt x="5447" y="8181"/>
                  <a:pt x="5383" y="8111"/>
                </a:cubicBezTo>
                <a:cubicBezTo>
                  <a:pt x="5321" y="8043"/>
                  <a:pt x="5279" y="8055"/>
                  <a:pt x="5209" y="8012"/>
                </a:cubicBezTo>
                <a:cubicBezTo>
                  <a:pt x="5186" y="7989"/>
                  <a:pt x="5182" y="7981"/>
                  <a:pt x="5159" y="7987"/>
                </a:cubicBezTo>
              </a:path>
              <a:path w="1936" h="696">
                <a:moveTo>
                  <a:pt x="5804" y="8012"/>
                </a:moveTo>
                <a:cubicBezTo>
                  <a:pt x="5778" y="8072"/>
                  <a:pt x="5776" y="8124"/>
                  <a:pt x="5755" y="8186"/>
                </a:cubicBezTo>
                <a:cubicBezTo>
                  <a:pt x="5724" y="8276"/>
                  <a:pt x="5705" y="8315"/>
                  <a:pt x="5705" y="8409"/>
                </a:cubicBezTo>
                <a:cubicBezTo>
                  <a:pt x="5705" y="8476"/>
                  <a:pt x="5712" y="8519"/>
                  <a:pt x="5779" y="8558"/>
                </a:cubicBezTo>
                <a:cubicBezTo>
                  <a:pt x="5845" y="8597"/>
                  <a:pt x="5889" y="8568"/>
                  <a:pt x="5953" y="8558"/>
                </a:cubicBezTo>
                <a:cubicBezTo>
                  <a:pt x="6070" y="8539"/>
                  <a:pt x="6053" y="8537"/>
                  <a:pt x="6127" y="8434"/>
                </a:cubicBezTo>
                <a:cubicBezTo>
                  <a:pt x="6172" y="8371"/>
                  <a:pt x="6153" y="8283"/>
                  <a:pt x="6127" y="8210"/>
                </a:cubicBezTo>
                <a:cubicBezTo>
                  <a:pt x="6103" y="8141"/>
                  <a:pt x="6065" y="8130"/>
                  <a:pt x="6003" y="8111"/>
                </a:cubicBezTo>
                <a:cubicBezTo>
                  <a:pt x="5945" y="8092"/>
                  <a:pt x="5939" y="8083"/>
                  <a:pt x="5904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94000" y="2786040"/>
            <a:ext cx="241200" cy="401760"/>
          </a:xfrm>
          <a:custGeom>
            <a:avLst/>
            <a:gdLst/>
            <a:ahLst/>
            <a:rect l="l" t="t" r="r" b="b"/>
            <a:pathLst>
              <a:path w="670" h="1117">
                <a:moveTo>
                  <a:pt x="6747" y="7739"/>
                </a:moveTo>
                <a:cubicBezTo>
                  <a:pt x="6706" y="7861"/>
                  <a:pt x="6662" y="7984"/>
                  <a:pt x="6648" y="8111"/>
                </a:cubicBezTo>
                <a:cubicBezTo>
                  <a:pt x="6633" y="8249"/>
                  <a:pt x="6633" y="8426"/>
                  <a:pt x="6672" y="8558"/>
                </a:cubicBezTo>
                <a:cubicBezTo>
                  <a:pt x="6701" y="8657"/>
                  <a:pt x="6741" y="8716"/>
                  <a:pt x="6796" y="8781"/>
                </a:cubicBezTo>
                <a:cubicBezTo>
                  <a:pt x="6868" y="8867"/>
                  <a:pt x="6841" y="8855"/>
                  <a:pt x="6945" y="8855"/>
                </a:cubicBezTo>
                <a:cubicBezTo>
                  <a:pt x="6962" y="8855"/>
                  <a:pt x="6978" y="8855"/>
                  <a:pt x="6995" y="8855"/>
                </a:cubicBezTo>
              </a:path>
              <a:path w="670" h="1117">
                <a:moveTo>
                  <a:pt x="7293" y="8657"/>
                </a:moveTo>
                <a:cubicBezTo>
                  <a:pt x="7293" y="8698"/>
                  <a:pt x="7285" y="8714"/>
                  <a:pt x="7317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6680" y="2768760"/>
            <a:ext cx="287280" cy="393480"/>
          </a:xfrm>
          <a:custGeom>
            <a:avLst/>
            <a:gdLst/>
            <a:ahLst/>
            <a:rect l="l" t="t" r="r" b="b"/>
            <a:pathLst>
              <a:path w="795" h="1093">
                <a:moveTo>
                  <a:pt x="7789" y="8037"/>
                </a:moveTo>
                <a:cubicBezTo>
                  <a:pt x="7890" y="8037"/>
                  <a:pt x="8029" y="8062"/>
                  <a:pt x="8111" y="8012"/>
                </a:cubicBezTo>
              </a:path>
              <a:path w="795" h="1093">
                <a:moveTo>
                  <a:pt x="7764" y="8062"/>
                </a:moveTo>
                <a:cubicBezTo>
                  <a:pt x="7720" y="8178"/>
                  <a:pt x="7714" y="8182"/>
                  <a:pt x="7714" y="8285"/>
                </a:cubicBezTo>
                <a:cubicBezTo>
                  <a:pt x="7714" y="8310"/>
                  <a:pt x="7714" y="8318"/>
                  <a:pt x="7714" y="8334"/>
                </a:cubicBezTo>
                <a:cubicBezTo>
                  <a:pt x="7763" y="8334"/>
                  <a:pt x="7773" y="8323"/>
                  <a:pt x="7813" y="8310"/>
                </a:cubicBezTo>
                <a:cubicBezTo>
                  <a:pt x="7851" y="8298"/>
                  <a:pt x="7865" y="8277"/>
                  <a:pt x="7888" y="8260"/>
                </a:cubicBezTo>
                <a:cubicBezTo>
                  <a:pt x="7930" y="8228"/>
                  <a:pt x="7956" y="8235"/>
                  <a:pt x="8012" y="8235"/>
                </a:cubicBezTo>
                <a:cubicBezTo>
                  <a:pt x="8089" y="8235"/>
                  <a:pt x="8098" y="8284"/>
                  <a:pt x="8136" y="8334"/>
                </a:cubicBezTo>
                <a:cubicBezTo>
                  <a:pt x="8179" y="8390"/>
                  <a:pt x="8186" y="8413"/>
                  <a:pt x="8186" y="8483"/>
                </a:cubicBezTo>
                <a:cubicBezTo>
                  <a:pt x="8186" y="8587"/>
                  <a:pt x="8148" y="8563"/>
                  <a:pt x="8062" y="8632"/>
                </a:cubicBezTo>
                <a:cubicBezTo>
                  <a:pt x="8001" y="8681"/>
                  <a:pt x="7977" y="8648"/>
                  <a:pt x="7913" y="8632"/>
                </a:cubicBezTo>
                <a:cubicBezTo>
                  <a:pt x="7870" y="8632"/>
                  <a:pt x="7856" y="8615"/>
                  <a:pt x="7863" y="8558"/>
                </a:cubicBezTo>
              </a:path>
              <a:path w="795" h="1093">
                <a:moveTo>
                  <a:pt x="8136" y="7689"/>
                </a:moveTo>
                <a:cubicBezTo>
                  <a:pt x="8259" y="7805"/>
                  <a:pt x="8306" y="7885"/>
                  <a:pt x="8384" y="8037"/>
                </a:cubicBezTo>
                <a:cubicBezTo>
                  <a:pt x="8432" y="8129"/>
                  <a:pt x="8512" y="8301"/>
                  <a:pt x="8508" y="8409"/>
                </a:cubicBezTo>
                <a:cubicBezTo>
                  <a:pt x="8505" y="8487"/>
                  <a:pt x="8458" y="8646"/>
                  <a:pt x="8409" y="8706"/>
                </a:cubicBezTo>
                <a:cubicBezTo>
                  <a:pt x="8377" y="8746"/>
                  <a:pt x="8312" y="8781"/>
                  <a:pt x="8260" y="8781"/>
                </a:cubicBezTo>
                <a:cubicBezTo>
                  <a:pt x="8252" y="8781"/>
                  <a:pt x="8243" y="8781"/>
                  <a:pt x="8235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89160" y="2562120"/>
            <a:ext cx="938160" cy="304920"/>
          </a:xfrm>
          <a:custGeom>
            <a:avLst/>
            <a:gdLst/>
            <a:ahLst/>
            <a:rect l="l" t="t" r="r" b="b"/>
            <a:pathLst>
              <a:path w="2606" h="844">
                <a:moveTo>
                  <a:pt x="8806" y="7268"/>
                </a:moveTo>
                <a:cubicBezTo>
                  <a:pt x="8744" y="7283"/>
                  <a:pt x="8745" y="7319"/>
                  <a:pt x="8706" y="7367"/>
                </a:cubicBezTo>
                <a:cubicBezTo>
                  <a:pt x="8645" y="7441"/>
                  <a:pt x="8635" y="7480"/>
                  <a:pt x="8607" y="7565"/>
                </a:cubicBezTo>
                <a:cubicBezTo>
                  <a:pt x="8586" y="7628"/>
                  <a:pt x="8593" y="7701"/>
                  <a:pt x="8632" y="7764"/>
                </a:cubicBezTo>
                <a:cubicBezTo>
                  <a:pt x="8672" y="7829"/>
                  <a:pt x="8687" y="7828"/>
                  <a:pt x="8756" y="7863"/>
                </a:cubicBezTo>
              </a:path>
              <a:path w="2606" h="844">
                <a:moveTo>
                  <a:pt x="9103" y="7268"/>
                </a:moveTo>
                <a:cubicBezTo>
                  <a:pt x="9103" y="7343"/>
                  <a:pt x="9069" y="7371"/>
                  <a:pt x="9054" y="7441"/>
                </a:cubicBezTo>
                <a:cubicBezTo>
                  <a:pt x="9040" y="7506"/>
                  <a:pt x="9013" y="7548"/>
                  <a:pt x="9054" y="7615"/>
                </a:cubicBezTo>
                <a:cubicBezTo>
                  <a:pt x="9067" y="7635"/>
                  <a:pt x="9131" y="7708"/>
                  <a:pt x="9153" y="7714"/>
                </a:cubicBezTo>
                <a:cubicBezTo>
                  <a:pt x="9204" y="7728"/>
                  <a:pt x="9284" y="7718"/>
                  <a:pt x="9327" y="7689"/>
                </a:cubicBezTo>
                <a:cubicBezTo>
                  <a:pt x="9366" y="7663"/>
                  <a:pt x="9411" y="7609"/>
                  <a:pt x="9426" y="7565"/>
                </a:cubicBezTo>
                <a:cubicBezTo>
                  <a:pt x="9436" y="7534"/>
                  <a:pt x="9444" y="7499"/>
                  <a:pt x="9451" y="7466"/>
                </a:cubicBezTo>
                <a:cubicBezTo>
                  <a:pt x="9392" y="7442"/>
                  <a:pt x="9306" y="7486"/>
                  <a:pt x="9277" y="7565"/>
                </a:cubicBezTo>
                <a:cubicBezTo>
                  <a:pt x="9253" y="7629"/>
                  <a:pt x="9260" y="7663"/>
                  <a:pt x="9277" y="7714"/>
                </a:cubicBezTo>
                <a:cubicBezTo>
                  <a:pt x="9289" y="7750"/>
                  <a:pt x="9314" y="7768"/>
                  <a:pt x="9351" y="7739"/>
                </a:cubicBezTo>
                <a:cubicBezTo>
                  <a:pt x="9359" y="7731"/>
                  <a:pt x="9368" y="7722"/>
                  <a:pt x="9376" y="7714"/>
                </a:cubicBezTo>
              </a:path>
              <a:path w="2606" h="844">
                <a:moveTo>
                  <a:pt x="9624" y="7293"/>
                </a:moveTo>
                <a:cubicBezTo>
                  <a:pt x="9632" y="7285"/>
                  <a:pt x="9641" y="7276"/>
                  <a:pt x="9649" y="7268"/>
                </a:cubicBezTo>
                <a:cubicBezTo>
                  <a:pt x="9649" y="7328"/>
                  <a:pt x="9634" y="7397"/>
                  <a:pt x="9674" y="7441"/>
                </a:cubicBezTo>
                <a:cubicBezTo>
                  <a:pt x="9700" y="7470"/>
                  <a:pt x="9738" y="7504"/>
                  <a:pt x="9773" y="7516"/>
                </a:cubicBezTo>
                <a:cubicBezTo>
                  <a:pt x="9801" y="7516"/>
                  <a:pt x="9812" y="7514"/>
                  <a:pt x="9823" y="7491"/>
                </a:cubicBezTo>
              </a:path>
              <a:path w="2606" h="844">
                <a:moveTo>
                  <a:pt x="9897" y="7193"/>
                </a:moveTo>
                <a:cubicBezTo>
                  <a:pt x="9860" y="7266"/>
                  <a:pt x="9834" y="7336"/>
                  <a:pt x="9823" y="7417"/>
                </a:cubicBezTo>
                <a:cubicBezTo>
                  <a:pt x="9814" y="7485"/>
                  <a:pt x="9803" y="7549"/>
                  <a:pt x="9798" y="7615"/>
                </a:cubicBezTo>
                <a:cubicBezTo>
                  <a:pt x="9795" y="7659"/>
                  <a:pt x="9783" y="7675"/>
                  <a:pt x="9773" y="7714"/>
                </a:cubicBezTo>
              </a:path>
              <a:path w="2606" h="844">
                <a:moveTo>
                  <a:pt x="10244" y="7218"/>
                </a:moveTo>
                <a:cubicBezTo>
                  <a:pt x="10210" y="7277"/>
                  <a:pt x="10177" y="7354"/>
                  <a:pt x="10145" y="7417"/>
                </a:cubicBezTo>
                <a:cubicBezTo>
                  <a:pt x="10105" y="7496"/>
                  <a:pt x="10074" y="7589"/>
                  <a:pt x="10046" y="7665"/>
                </a:cubicBezTo>
                <a:cubicBezTo>
                  <a:pt x="10025" y="7721"/>
                  <a:pt x="9996" y="7752"/>
                  <a:pt x="9996" y="7813"/>
                </a:cubicBezTo>
                <a:cubicBezTo>
                  <a:pt x="9996" y="7821"/>
                  <a:pt x="9996" y="7830"/>
                  <a:pt x="9996" y="7838"/>
                </a:cubicBezTo>
              </a:path>
              <a:path w="2606" h="844">
                <a:moveTo>
                  <a:pt x="10368" y="7367"/>
                </a:moveTo>
                <a:cubicBezTo>
                  <a:pt x="10447" y="7324"/>
                  <a:pt x="10459" y="7317"/>
                  <a:pt x="10542" y="7317"/>
                </a:cubicBezTo>
                <a:cubicBezTo>
                  <a:pt x="10587" y="7317"/>
                  <a:pt x="10637" y="7353"/>
                  <a:pt x="10616" y="7417"/>
                </a:cubicBezTo>
                <a:cubicBezTo>
                  <a:pt x="10603" y="7458"/>
                  <a:pt x="10505" y="7529"/>
                  <a:pt x="10468" y="7541"/>
                </a:cubicBezTo>
                <a:cubicBezTo>
                  <a:pt x="10440" y="7541"/>
                  <a:pt x="10429" y="7543"/>
                  <a:pt x="10418" y="7565"/>
                </a:cubicBezTo>
                <a:cubicBezTo>
                  <a:pt x="10461" y="7597"/>
                  <a:pt x="10492" y="7585"/>
                  <a:pt x="10542" y="7615"/>
                </a:cubicBezTo>
                <a:cubicBezTo>
                  <a:pt x="10569" y="7631"/>
                  <a:pt x="10673" y="7681"/>
                  <a:pt x="10641" y="7739"/>
                </a:cubicBezTo>
                <a:cubicBezTo>
                  <a:pt x="10619" y="7778"/>
                  <a:pt x="10557" y="7825"/>
                  <a:pt x="10517" y="7838"/>
                </a:cubicBezTo>
                <a:cubicBezTo>
                  <a:pt x="10483" y="7849"/>
                  <a:pt x="10417" y="7810"/>
                  <a:pt x="10393" y="7789"/>
                </a:cubicBezTo>
                <a:cubicBezTo>
                  <a:pt x="10385" y="7781"/>
                  <a:pt x="10376" y="7772"/>
                  <a:pt x="10368" y="7764"/>
                </a:cubicBezTo>
              </a:path>
              <a:path w="2606" h="844">
                <a:moveTo>
                  <a:pt x="10765" y="7367"/>
                </a:moveTo>
                <a:cubicBezTo>
                  <a:pt x="10741" y="7417"/>
                  <a:pt x="10631" y="7576"/>
                  <a:pt x="10641" y="7640"/>
                </a:cubicBezTo>
                <a:cubicBezTo>
                  <a:pt x="10644" y="7662"/>
                  <a:pt x="10724" y="7711"/>
                  <a:pt x="10740" y="7714"/>
                </a:cubicBezTo>
                <a:cubicBezTo>
                  <a:pt x="10809" y="7729"/>
                  <a:pt x="10831" y="7680"/>
                  <a:pt x="10864" y="7640"/>
                </a:cubicBezTo>
                <a:cubicBezTo>
                  <a:pt x="10903" y="7592"/>
                  <a:pt x="10915" y="7547"/>
                  <a:pt x="10939" y="7491"/>
                </a:cubicBezTo>
                <a:cubicBezTo>
                  <a:pt x="10897" y="7459"/>
                  <a:pt x="10871" y="7466"/>
                  <a:pt x="10815" y="7466"/>
                </a:cubicBezTo>
                <a:cubicBezTo>
                  <a:pt x="10780" y="7466"/>
                  <a:pt x="10776" y="7457"/>
                  <a:pt x="10815" y="7417"/>
                </a:cubicBezTo>
              </a:path>
              <a:path w="2606" h="844">
                <a:moveTo>
                  <a:pt x="10939" y="7119"/>
                </a:moveTo>
                <a:cubicBezTo>
                  <a:pt x="11073" y="7261"/>
                  <a:pt x="11108" y="7312"/>
                  <a:pt x="11162" y="7491"/>
                </a:cubicBezTo>
                <a:cubicBezTo>
                  <a:pt x="11206" y="7636"/>
                  <a:pt x="11169" y="7702"/>
                  <a:pt x="11088" y="7838"/>
                </a:cubicBezTo>
                <a:cubicBezTo>
                  <a:pt x="11059" y="7887"/>
                  <a:pt x="10990" y="7891"/>
                  <a:pt x="10964" y="7938"/>
                </a:cubicBezTo>
                <a:cubicBezTo>
                  <a:pt x="10964" y="7946"/>
                  <a:pt x="10964" y="7954"/>
                  <a:pt x="10964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3240" y="2919240"/>
            <a:ext cx="15264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11509" y="8136"/>
                </a:moveTo>
                <a:cubicBezTo>
                  <a:pt x="11592" y="8105"/>
                  <a:pt x="11669" y="8116"/>
                  <a:pt x="11757" y="8136"/>
                </a:cubicBezTo>
                <a:cubicBezTo>
                  <a:pt x="11826" y="8152"/>
                  <a:pt x="11861" y="8161"/>
                  <a:pt x="11931" y="8161"/>
                </a:cubicBezTo>
              </a:path>
              <a:path w="423" h="299">
                <a:moveTo>
                  <a:pt x="11559" y="8310"/>
                </a:moveTo>
                <a:cubicBezTo>
                  <a:pt x="11664" y="8338"/>
                  <a:pt x="11736" y="8353"/>
                  <a:pt x="11832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1000" y="2820960"/>
            <a:ext cx="669960" cy="430200"/>
          </a:xfrm>
          <a:custGeom>
            <a:avLst/>
            <a:gdLst/>
            <a:ahLst/>
            <a:rect l="l" t="t" r="r" b="b"/>
            <a:pathLst>
              <a:path w="1861" h="1192">
                <a:moveTo>
                  <a:pt x="12551" y="7838"/>
                </a:moveTo>
                <a:cubicBezTo>
                  <a:pt x="12551" y="7921"/>
                  <a:pt x="12538" y="8005"/>
                  <a:pt x="12526" y="8086"/>
                </a:cubicBezTo>
                <a:cubicBezTo>
                  <a:pt x="12506" y="8217"/>
                  <a:pt x="12489" y="8354"/>
                  <a:pt x="12477" y="8483"/>
                </a:cubicBezTo>
                <a:cubicBezTo>
                  <a:pt x="12465" y="8611"/>
                  <a:pt x="12487" y="8736"/>
                  <a:pt x="12502" y="8855"/>
                </a:cubicBezTo>
                <a:cubicBezTo>
                  <a:pt x="12508" y="8902"/>
                  <a:pt x="12480" y="8992"/>
                  <a:pt x="12526" y="9004"/>
                </a:cubicBezTo>
                <a:cubicBezTo>
                  <a:pt x="12534" y="9004"/>
                  <a:pt x="12543" y="9004"/>
                  <a:pt x="12551" y="9004"/>
                </a:cubicBezTo>
              </a:path>
              <a:path w="1861" h="1192">
                <a:moveTo>
                  <a:pt x="12849" y="8012"/>
                </a:moveTo>
                <a:cubicBezTo>
                  <a:pt x="12879" y="7933"/>
                  <a:pt x="12901" y="7861"/>
                  <a:pt x="12998" y="7838"/>
                </a:cubicBezTo>
                <a:cubicBezTo>
                  <a:pt x="13086" y="7817"/>
                  <a:pt x="13136" y="7858"/>
                  <a:pt x="13196" y="7913"/>
                </a:cubicBezTo>
                <a:cubicBezTo>
                  <a:pt x="13247" y="7960"/>
                  <a:pt x="13280" y="8067"/>
                  <a:pt x="13271" y="8136"/>
                </a:cubicBezTo>
                <a:cubicBezTo>
                  <a:pt x="13259" y="8229"/>
                  <a:pt x="13220" y="8329"/>
                  <a:pt x="13171" y="8409"/>
                </a:cubicBezTo>
                <a:cubicBezTo>
                  <a:pt x="13113" y="8505"/>
                  <a:pt x="13083" y="8600"/>
                  <a:pt x="13047" y="8706"/>
                </a:cubicBezTo>
                <a:cubicBezTo>
                  <a:pt x="13029" y="8759"/>
                  <a:pt x="12998" y="8870"/>
                  <a:pt x="13022" y="8930"/>
                </a:cubicBezTo>
                <a:cubicBezTo>
                  <a:pt x="13061" y="9028"/>
                  <a:pt x="13117" y="9012"/>
                  <a:pt x="13171" y="9004"/>
                </a:cubicBezTo>
                <a:cubicBezTo>
                  <a:pt x="13262" y="8991"/>
                  <a:pt x="13316" y="8931"/>
                  <a:pt x="13370" y="8855"/>
                </a:cubicBezTo>
                <a:cubicBezTo>
                  <a:pt x="13426" y="8771"/>
                  <a:pt x="13445" y="8734"/>
                  <a:pt x="13444" y="8657"/>
                </a:cubicBezTo>
              </a:path>
              <a:path w="1861" h="1192">
                <a:moveTo>
                  <a:pt x="13370" y="8037"/>
                </a:moveTo>
                <a:cubicBezTo>
                  <a:pt x="13524" y="7976"/>
                  <a:pt x="13649" y="7951"/>
                  <a:pt x="13816" y="7938"/>
                </a:cubicBezTo>
                <a:cubicBezTo>
                  <a:pt x="13924" y="7930"/>
                  <a:pt x="14011" y="7891"/>
                  <a:pt x="14114" y="7863"/>
                </a:cubicBezTo>
                <a:cubicBezTo>
                  <a:pt x="14122" y="7863"/>
                  <a:pt x="14131" y="7863"/>
                  <a:pt x="14139" y="7863"/>
                </a:cubicBezTo>
                <a:cubicBezTo>
                  <a:pt x="14087" y="7928"/>
                  <a:pt x="14061" y="8005"/>
                  <a:pt x="14039" y="8086"/>
                </a:cubicBezTo>
                <a:cubicBezTo>
                  <a:pt x="14001" y="8225"/>
                  <a:pt x="13990" y="8339"/>
                  <a:pt x="13990" y="8483"/>
                </a:cubicBezTo>
                <a:cubicBezTo>
                  <a:pt x="13990" y="8629"/>
                  <a:pt x="13997" y="8825"/>
                  <a:pt x="13965" y="8930"/>
                </a:cubicBezTo>
              </a:path>
              <a:path w="1861" h="1192">
                <a:moveTo>
                  <a:pt x="14312" y="8806"/>
                </a:moveTo>
                <a:cubicBezTo>
                  <a:pt x="14312" y="8781"/>
                  <a:pt x="14312" y="8773"/>
                  <a:pt x="14337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57880" y="3160800"/>
            <a:ext cx="27000" cy="1440"/>
          </a:xfrm>
          <a:custGeom>
            <a:avLst/>
            <a:gdLst/>
            <a:ahLst/>
            <a:rect l="l" t="t" r="r" b="b"/>
            <a:pathLst>
              <a:path w="75" h="1">
                <a:moveTo>
                  <a:pt x="14883" y="8781"/>
                </a:moveTo>
                <a:cubicBezTo>
                  <a:pt x="14924" y="8781"/>
                  <a:pt x="14932" y="8781"/>
                  <a:pt x="14957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18080" y="3133800"/>
            <a:ext cx="142920" cy="28440"/>
          </a:xfrm>
          <a:custGeom>
            <a:avLst/>
            <a:gdLst/>
            <a:ahLst/>
            <a:rect l="l" t="t" r="r" b="b"/>
            <a:pathLst>
              <a:path w="398" h="76">
                <a:moveTo>
                  <a:pt x="15329" y="8781"/>
                </a:moveTo>
                <a:cubicBezTo>
                  <a:pt x="15395" y="8781"/>
                  <a:pt x="15377" y="8750"/>
                  <a:pt x="15429" y="8706"/>
                </a:cubicBezTo>
              </a:path>
              <a:path w="398" h="76">
                <a:moveTo>
                  <a:pt x="15726" y="8706"/>
                </a:moveTo>
                <a:cubicBezTo>
                  <a:pt x="15718" y="8706"/>
                  <a:pt x="15709" y="8706"/>
                  <a:pt x="15701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240" y="4446720"/>
            <a:ext cx="1197000" cy="474480"/>
          </a:xfrm>
          <a:custGeom>
            <a:avLst/>
            <a:gdLst/>
            <a:ahLst/>
            <a:rect l="l" t="t" r="r" b="b"/>
            <a:pathLst>
              <a:path w="3324" h="1315">
                <a:moveTo>
                  <a:pt x="2208" y="12601"/>
                </a:moveTo>
                <a:cubicBezTo>
                  <a:pt x="2213" y="12564"/>
                  <a:pt x="2214" y="12532"/>
                  <a:pt x="2232" y="12502"/>
                </a:cubicBezTo>
                <a:cubicBezTo>
                  <a:pt x="2259" y="12457"/>
                  <a:pt x="2331" y="12389"/>
                  <a:pt x="2381" y="12378"/>
                </a:cubicBezTo>
                <a:cubicBezTo>
                  <a:pt x="2458" y="12362"/>
                  <a:pt x="2573" y="12337"/>
                  <a:pt x="2654" y="12353"/>
                </a:cubicBezTo>
                <a:cubicBezTo>
                  <a:pt x="2753" y="12372"/>
                  <a:pt x="2811" y="12427"/>
                  <a:pt x="2877" y="12477"/>
                </a:cubicBezTo>
                <a:cubicBezTo>
                  <a:pt x="2967" y="12545"/>
                  <a:pt x="2960" y="12594"/>
                  <a:pt x="2927" y="12700"/>
                </a:cubicBezTo>
                <a:cubicBezTo>
                  <a:pt x="2895" y="12801"/>
                  <a:pt x="2813" y="12884"/>
                  <a:pt x="2753" y="12973"/>
                </a:cubicBezTo>
                <a:cubicBezTo>
                  <a:pt x="2679" y="13084"/>
                  <a:pt x="2597" y="13177"/>
                  <a:pt x="2530" y="13295"/>
                </a:cubicBezTo>
                <a:cubicBezTo>
                  <a:pt x="2511" y="13328"/>
                  <a:pt x="2451" y="13441"/>
                  <a:pt x="2456" y="13469"/>
                </a:cubicBezTo>
                <a:cubicBezTo>
                  <a:pt x="2463" y="13504"/>
                  <a:pt x="2529" y="13537"/>
                  <a:pt x="2555" y="13543"/>
                </a:cubicBezTo>
                <a:cubicBezTo>
                  <a:pt x="2632" y="13561"/>
                  <a:pt x="2705" y="13527"/>
                  <a:pt x="2778" y="13519"/>
                </a:cubicBezTo>
                <a:cubicBezTo>
                  <a:pt x="2866" y="13509"/>
                  <a:pt x="2940" y="13496"/>
                  <a:pt x="3026" y="13469"/>
                </a:cubicBezTo>
              </a:path>
              <a:path w="3324" h="1315">
                <a:moveTo>
                  <a:pt x="3621" y="12725"/>
                </a:moveTo>
                <a:cubicBezTo>
                  <a:pt x="3605" y="12790"/>
                  <a:pt x="3533" y="12836"/>
                  <a:pt x="3497" y="12898"/>
                </a:cubicBezTo>
                <a:cubicBezTo>
                  <a:pt x="3455" y="12972"/>
                  <a:pt x="3381" y="13106"/>
                  <a:pt x="3398" y="13196"/>
                </a:cubicBezTo>
                <a:cubicBezTo>
                  <a:pt x="3407" y="13243"/>
                  <a:pt x="3482" y="13325"/>
                  <a:pt x="3522" y="13345"/>
                </a:cubicBezTo>
                <a:cubicBezTo>
                  <a:pt x="3598" y="13383"/>
                  <a:pt x="3698" y="13391"/>
                  <a:pt x="3770" y="13370"/>
                </a:cubicBezTo>
                <a:cubicBezTo>
                  <a:pt x="3883" y="13337"/>
                  <a:pt x="3926" y="13306"/>
                  <a:pt x="3969" y="13196"/>
                </a:cubicBezTo>
                <a:cubicBezTo>
                  <a:pt x="4008" y="13097"/>
                  <a:pt x="4044" y="13001"/>
                  <a:pt x="3994" y="12898"/>
                </a:cubicBezTo>
                <a:cubicBezTo>
                  <a:pt x="3947" y="12801"/>
                  <a:pt x="3865" y="12737"/>
                  <a:pt x="3770" y="12700"/>
                </a:cubicBezTo>
                <a:cubicBezTo>
                  <a:pt x="3699" y="12673"/>
                  <a:pt x="3645" y="12675"/>
                  <a:pt x="3572" y="12675"/>
                </a:cubicBezTo>
              </a:path>
              <a:path w="3324" h="1315">
                <a:moveTo>
                  <a:pt x="4564" y="12551"/>
                </a:moveTo>
                <a:cubicBezTo>
                  <a:pt x="4500" y="12573"/>
                  <a:pt x="4432" y="12602"/>
                  <a:pt x="4366" y="12626"/>
                </a:cubicBezTo>
                <a:cubicBezTo>
                  <a:pt x="4303" y="12649"/>
                  <a:pt x="4270" y="12669"/>
                  <a:pt x="4217" y="12700"/>
                </a:cubicBezTo>
                <a:cubicBezTo>
                  <a:pt x="4242" y="12852"/>
                  <a:pt x="4288" y="12868"/>
                  <a:pt x="4415" y="12998"/>
                </a:cubicBezTo>
                <a:cubicBezTo>
                  <a:pt x="4516" y="13101"/>
                  <a:pt x="4629" y="13230"/>
                  <a:pt x="4663" y="13370"/>
                </a:cubicBezTo>
                <a:cubicBezTo>
                  <a:pt x="4680" y="13441"/>
                  <a:pt x="4622" y="13517"/>
                  <a:pt x="4564" y="13543"/>
                </a:cubicBezTo>
                <a:cubicBezTo>
                  <a:pt x="4464" y="13588"/>
                  <a:pt x="4329" y="13559"/>
                  <a:pt x="4242" y="13494"/>
                </a:cubicBezTo>
                <a:cubicBezTo>
                  <a:pt x="4171" y="13442"/>
                  <a:pt x="4186" y="13311"/>
                  <a:pt x="4217" y="13246"/>
                </a:cubicBezTo>
                <a:cubicBezTo>
                  <a:pt x="4274" y="13127"/>
                  <a:pt x="4363" y="13049"/>
                  <a:pt x="4465" y="12973"/>
                </a:cubicBezTo>
                <a:cubicBezTo>
                  <a:pt x="4584" y="12884"/>
                  <a:pt x="4705" y="12794"/>
                  <a:pt x="4837" y="12725"/>
                </a:cubicBezTo>
                <a:cubicBezTo>
                  <a:pt x="4881" y="12703"/>
                  <a:pt x="4892" y="12700"/>
                  <a:pt x="4911" y="12675"/>
                </a:cubicBezTo>
                <a:cubicBezTo>
                  <a:pt x="4896" y="12756"/>
                  <a:pt x="4875" y="12795"/>
                  <a:pt x="4837" y="12874"/>
                </a:cubicBezTo>
                <a:cubicBezTo>
                  <a:pt x="4783" y="12987"/>
                  <a:pt x="4799" y="13030"/>
                  <a:pt x="4812" y="13146"/>
                </a:cubicBezTo>
                <a:cubicBezTo>
                  <a:pt x="4825" y="13262"/>
                  <a:pt x="4874" y="13340"/>
                  <a:pt x="4986" y="13395"/>
                </a:cubicBezTo>
                <a:cubicBezTo>
                  <a:pt x="5061" y="13432"/>
                  <a:pt x="5225" y="13496"/>
                  <a:pt x="5308" y="13469"/>
                </a:cubicBezTo>
                <a:cubicBezTo>
                  <a:pt x="5379" y="13446"/>
                  <a:pt x="5503" y="13343"/>
                  <a:pt x="5531" y="13271"/>
                </a:cubicBezTo>
                <a:cubicBezTo>
                  <a:pt x="5571" y="13166"/>
                  <a:pt x="5486" y="13106"/>
                  <a:pt x="5407" y="13072"/>
                </a:cubicBezTo>
                <a:cubicBezTo>
                  <a:pt x="5349" y="13047"/>
                  <a:pt x="5211" y="13045"/>
                  <a:pt x="5159" y="13097"/>
                </a:cubicBezTo>
                <a:cubicBezTo>
                  <a:pt x="5095" y="13161"/>
                  <a:pt x="5143" y="13324"/>
                  <a:pt x="5159" y="13395"/>
                </a:cubicBezTo>
                <a:cubicBezTo>
                  <a:pt x="5180" y="13489"/>
                  <a:pt x="5202" y="13571"/>
                  <a:pt x="5209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garithmic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y = 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a</a:t>
            </a:r>
            <a:r>
              <a:rPr b="0" lang="en-US" sz="83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3120" y="2035080"/>
            <a:ext cx="2098800" cy="965160"/>
          </a:xfrm>
          <a:custGeom>
            <a:avLst/>
            <a:gdLst/>
            <a:ahLst/>
            <a:rect l="l" t="t" r="r" b="b"/>
            <a:pathLst>
              <a:path w="5830" h="2680">
                <a:moveTo>
                  <a:pt x="7342" y="5655"/>
                </a:moveTo>
                <a:cubicBezTo>
                  <a:pt x="7365" y="5768"/>
                  <a:pt x="7382" y="5890"/>
                  <a:pt x="7392" y="6003"/>
                </a:cubicBezTo>
                <a:cubicBezTo>
                  <a:pt x="7405" y="6141"/>
                  <a:pt x="7407" y="6287"/>
                  <a:pt x="7417" y="6424"/>
                </a:cubicBezTo>
                <a:cubicBezTo>
                  <a:pt x="7433" y="6641"/>
                  <a:pt x="7404" y="6853"/>
                  <a:pt x="7441" y="7069"/>
                </a:cubicBezTo>
                <a:cubicBezTo>
                  <a:pt x="7468" y="7226"/>
                  <a:pt x="7463" y="7386"/>
                  <a:pt x="7491" y="7541"/>
                </a:cubicBezTo>
                <a:cubicBezTo>
                  <a:pt x="7506" y="7622"/>
                  <a:pt x="7554" y="7717"/>
                  <a:pt x="7565" y="7789"/>
                </a:cubicBezTo>
                <a:cubicBezTo>
                  <a:pt x="7583" y="7905"/>
                  <a:pt x="7609" y="7790"/>
                  <a:pt x="7615" y="7739"/>
                </a:cubicBezTo>
              </a:path>
              <a:path w="5830" h="2680">
                <a:moveTo>
                  <a:pt x="7938" y="6921"/>
                </a:moveTo>
                <a:cubicBezTo>
                  <a:pt x="7913" y="7052"/>
                  <a:pt x="7877" y="7187"/>
                  <a:pt x="7863" y="7317"/>
                </a:cubicBezTo>
                <a:cubicBezTo>
                  <a:pt x="7853" y="7412"/>
                  <a:pt x="7898" y="7483"/>
                  <a:pt x="7938" y="7565"/>
                </a:cubicBezTo>
                <a:cubicBezTo>
                  <a:pt x="7962" y="7613"/>
                  <a:pt x="8007" y="7675"/>
                  <a:pt x="8062" y="7689"/>
                </a:cubicBezTo>
                <a:cubicBezTo>
                  <a:pt x="8139" y="7709"/>
                  <a:pt x="8189" y="7636"/>
                  <a:pt x="8235" y="7590"/>
                </a:cubicBezTo>
                <a:cubicBezTo>
                  <a:pt x="8315" y="7511"/>
                  <a:pt x="8311" y="7468"/>
                  <a:pt x="8334" y="7367"/>
                </a:cubicBezTo>
                <a:cubicBezTo>
                  <a:pt x="8363" y="7241"/>
                  <a:pt x="8330" y="7122"/>
                  <a:pt x="8285" y="6995"/>
                </a:cubicBezTo>
                <a:cubicBezTo>
                  <a:pt x="8261" y="6926"/>
                  <a:pt x="8195" y="6881"/>
                  <a:pt x="8136" y="6846"/>
                </a:cubicBezTo>
                <a:cubicBezTo>
                  <a:pt x="8085" y="6816"/>
                  <a:pt x="8010" y="6810"/>
                  <a:pt x="7962" y="6846"/>
                </a:cubicBezTo>
                <a:cubicBezTo>
                  <a:pt x="7891" y="6898"/>
                  <a:pt x="7853" y="7011"/>
                  <a:pt x="7838" y="7094"/>
                </a:cubicBezTo>
                <a:cubicBezTo>
                  <a:pt x="7826" y="7159"/>
                  <a:pt x="7844" y="7210"/>
                  <a:pt x="7863" y="7268"/>
                </a:cubicBezTo>
              </a:path>
              <a:path w="5830" h="2680">
                <a:moveTo>
                  <a:pt x="8905" y="6871"/>
                </a:moveTo>
                <a:cubicBezTo>
                  <a:pt x="8897" y="6838"/>
                  <a:pt x="8888" y="6805"/>
                  <a:pt x="8880" y="6772"/>
                </a:cubicBezTo>
                <a:cubicBezTo>
                  <a:pt x="8815" y="6778"/>
                  <a:pt x="8782" y="6773"/>
                  <a:pt x="8731" y="6821"/>
                </a:cubicBezTo>
                <a:cubicBezTo>
                  <a:pt x="8656" y="6891"/>
                  <a:pt x="8594" y="6976"/>
                  <a:pt x="8558" y="7069"/>
                </a:cubicBezTo>
                <a:cubicBezTo>
                  <a:pt x="8524" y="7159"/>
                  <a:pt x="8533" y="7247"/>
                  <a:pt x="8533" y="7342"/>
                </a:cubicBezTo>
                <a:cubicBezTo>
                  <a:pt x="8533" y="7386"/>
                  <a:pt x="8555" y="7497"/>
                  <a:pt x="8607" y="7516"/>
                </a:cubicBezTo>
                <a:cubicBezTo>
                  <a:pt x="8665" y="7537"/>
                  <a:pt x="8697" y="7548"/>
                  <a:pt x="8756" y="7516"/>
                </a:cubicBezTo>
                <a:cubicBezTo>
                  <a:pt x="8805" y="7490"/>
                  <a:pt x="8831" y="7389"/>
                  <a:pt x="8855" y="7342"/>
                </a:cubicBezTo>
                <a:cubicBezTo>
                  <a:pt x="8894" y="7265"/>
                  <a:pt x="8880" y="7179"/>
                  <a:pt x="8880" y="7094"/>
                </a:cubicBezTo>
                <a:cubicBezTo>
                  <a:pt x="8880" y="7025"/>
                  <a:pt x="8883" y="6932"/>
                  <a:pt x="8855" y="6871"/>
                </a:cubicBezTo>
                <a:cubicBezTo>
                  <a:pt x="8833" y="6849"/>
                  <a:pt x="8828" y="6840"/>
                  <a:pt x="8806" y="6846"/>
                </a:cubicBezTo>
                <a:cubicBezTo>
                  <a:pt x="8806" y="7007"/>
                  <a:pt x="8818" y="7157"/>
                  <a:pt x="8830" y="7317"/>
                </a:cubicBezTo>
                <a:cubicBezTo>
                  <a:pt x="8840" y="7446"/>
                  <a:pt x="8877" y="7563"/>
                  <a:pt x="8905" y="7689"/>
                </a:cubicBezTo>
                <a:cubicBezTo>
                  <a:pt x="8932" y="7809"/>
                  <a:pt x="8976" y="7937"/>
                  <a:pt x="8954" y="8062"/>
                </a:cubicBezTo>
                <a:cubicBezTo>
                  <a:pt x="8941" y="8139"/>
                  <a:pt x="8892" y="8237"/>
                  <a:pt x="8830" y="8285"/>
                </a:cubicBezTo>
                <a:cubicBezTo>
                  <a:pt x="8770" y="8331"/>
                  <a:pt x="8656" y="8351"/>
                  <a:pt x="8582" y="8334"/>
                </a:cubicBezTo>
                <a:cubicBezTo>
                  <a:pt x="8507" y="8317"/>
                  <a:pt x="8468" y="8272"/>
                  <a:pt x="8434" y="8210"/>
                </a:cubicBezTo>
              </a:path>
              <a:path w="5830" h="2680">
                <a:moveTo>
                  <a:pt x="9327" y="7491"/>
                </a:moveTo>
                <a:cubicBezTo>
                  <a:pt x="9327" y="7508"/>
                  <a:pt x="9327" y="7524"/>
                  <a:pt x="9327" y="7541"/>
                </a:cubicBezTo>
                <a:cubicBezTo>
                  <a:pt x="9320" y="7513"/>
                  <a:pt x="9276" y="7435"/>
                  <a:pt x="9252" y="7417"/>
                </a:cubicBezTo>
                <a:cubicBezTo>
                  <a:pt x="9244" y="7417"/>
                  <a:pt x="9235" y="7417"/>
                  <a:pt x="9227" y="7417"/>
                </a:cubicBezTo>
                <a:cubicBezTo>
                  <a:pt x="9193" y="7451"/>
                  <a:pt x="9175" y="7478"/>
                  <a:pt x="9153" y="7516"/>
                </a:cubicBezTo>
                <a:cubicBezTo>
                  <a:pt x="9144" y="7532"/>
                  <a:pt x="9095" y="7623"/>
                  <a:pt x="9103" y="7640"/>
                </a:cubicBezTo>
                <a:cubicBezTo>
                  <a:pt x="9123" y="7684"/>
                  <a:pt x="9132" y="7689"/>
                  <a:pt x="9178" y="7689"/>
                </a:cubicBezTo>
                <a:cubicBezTo>
                  <a:pt x="9212" y="7689"/>
                  <a:pt x="9239" y="7683"/>
                  <a:pt x="9252" y="7665"/>
                </a:cubicBezTo>
                <a:cubicBezTo>
                  <a:pt x="9275" y="7634"/>
                  <a:pt x="9294" y="7599"/>
                  <a:pt x="9302" y="7565"/>
                </a:cubicBezTo>
                <a:cubicBezTo>
                  <a:pt x="9308" y="7589"/>
                  <a:pt x="9315" y="7643"/>
                  <a:pt x="9327" y="7665"/>
                </a:cubicBezTo>
                <a:cubicBezTo>
                  <a:pt x="9347" y="7702"/>
                  <a:pt x="9416" y="7711"/>
                  <a:pt x="9451" y="7714"/>
                </a:cubicBezTo>
                <a:cubicBezTo>
                  <a:pt x="9484" y="7714"/>
                  <a:pt x="9500" y="7714"/>
                  <a:pt x="9525" y="7714"/>
                </a:cubicBezTo>
              </a:path>
              <a:path w="5830" h="2680">
                <a:moveTo>
                  <a:pt x="9823" y="5854"/>
                </a:moveTo>
                <a:cubicBezTo>
                  <a:pt x="9853" y="5976"/>
                  <a:pt x="9882" y="6081"/>
                  <a:pt x="9922" y="6201"/>
                </a:cubicBezTo>
                <a:cubicBezTo>
                  <a:pt x="9965" y="6329"/>
                  <a:pt x="10012" y="6450"/>
                  <a:pt x="10071" y="6573"/>
                </a:cubicBezTo>
                <a:cubicBezTo>
                  <a:pt x="10125" y="6684"/>
                  <a:pt x="10213" y="6801"/>
                  <a:pt x="10294" y="6896"/>
                </a:cubicBezTo>
                <a:cubicBezTo>
                  <a:pt x="10349" y="6961"/>
                  <a:pt x="10422" y="7053"/>
                  <a:pt x="10492" y="7094"/>
                </a:cubicBezTo>
                <a:cubicBezTo>
                  <a:pt x="10552" y="7129"/>
                  <a:pt x="10545" y="7142"/>
                  <a:pt x="10592" y="7119"/>
                </a:cubicBezTo>
              </a:path>
              <a:path w="5830" h="2680">
                <a:moveTo>
                  <a:pt x="10220" y="5854"/>
                </a:moveTo>
                <a:cubicBezTo>
                  <a:pt x="10185" y="5993"/>
                  <a:pt x="10151" y="6120"/>
                  <a:pt x="10096" y="6251"/>
                </a:cubicBezTo>
                <a:cubicBezTo>
                  <a:pt x="10034" y="6401"/>
                  <a:pt x="9969" y="6551"/>
                  <a:pt x="9897" y="6697"/>
                </a:cubicBezTo>
                <a:cubicBezTo>
                  <a:pt x="9836" y="6822"/>
                  <a:pt x="9757" y="6944"/>
                  <a:pt x="9699" y="7069"/>
                </a:cubicBezTo>
                <a:cubicBezTo>
                  <a:pt x="9658" y="7157"/>
                  <a:pt x="9625" y="7251"/>
                  <a:pt x="9599" y="7342"/>
                </a:cubicBezTo>
              </a:path>
              <a:path w="5830" h="2680">
                <a:moveTo>
                  <a:pt x="10765" y="6350"/>
                </a:moveTo>
                <a:cubicBezTo>
                  <a:pt x="10930" y="6350"/>
                  <a:pt x="11096" y="6350"/>
                  <a:pt x="11261" y="6350"/>
                </a:cubicBezTo>
              </a:path>
              <a:path w="5830" h="2680">
                <a:moveTo>
                  <a:pt x="10889" y="6747"/>
                </a:moveTo>
                <a:cubicBezTo>
                  <a:pt x="11052" y="6765"/>
                  <a:pt x="11207" y="6800"/>
                  <a:pt x="11361" y="6722"/>
                </a:cubicBezTo>
                <a:cubicBezTo>
                  <a:pt x="11435" y="6672"/>
                  <a:pt x="11459" y="6656"/>
                  <a:pt x="11509" y="6623"/>
                </a:cubicBezTo>
              </a:path>
              <a:path w="5830" h="2680">
                <a:moveTo>
                  <a:pt x="12278" y="6052"/>
                </a:moveTo>
                <a:cubicBezTo>
                  <a:pt x="12360" y="6079"/>
                  <a:pt x="12328" y="6151"/>
                  <a:pt x="12328" y="6251"/>
                </a:cubicBezTo>
                <a:cubicBezTo>
                  <a:pt x="12328" y="6384"/>
                  <a:pt x="12281" y="6514"/>
                  <a:pt x="12303" y="6648"/>
                </a:cubicBezTo>
                <a:cubicBezTo>
                  <a:pt x="12326" y="6788"/>
                  <a:pt x="12351" y="6945"/>
                  <a:pt x="12477" y="7020"/>
                </a:cubicBezTo>
                <a:cubicBezTo>
                  <a:pt x="12553" y="7065"/>
                  <a:pt x="12645" y="7049"/>
                  <a:pt x="12725" y="7020"/>
                </a:cubicBezTo>
                <a:cubicBezTo>
                  <a:pt x="12884" y="6961"/>
                  <a:pt x="12936" y="6831"/>
                  <a:pt x="13022" y="6697"/>
                </a:cubicBezTo>
                <a:cubicBezTo>
                  <a:pt x="13085" y="6599"/>
                  <a:pt x="13150" y="6493"/>
                  <a:pt x="13171" y="6375"/>
                </a:cubicBezTo>
                <a:cubicBezTo>
                  <a:pt x="13188" y="6282"/>
                  <a:pt x="13161" y="6180"/>
                  <a:pt x="13146" y="6102"/>
                </a:cubicBezTo>
                <a:cubicBezTo>
                  <a:pt x="13146" y="6094"/>
                  <a:pt x="13146" y="6085"/>
                  <a:pt x="13146" y="6077"/>
                </a:cubicBezTo>
                <a:cubicBezTo>
                  <a:pt x="13128" y="6099"/>
                  <a:pt x="13095" y="6130"/>
                  <a:pt x="13072" y="6176"/>
                </a:cubicBezTo>
                <a:cubicBezTo>
                  <a:pt x="13039" y="6242"/>
                  <a:pt x="13009" y="6350"/>
                  <a:pt x="12998" y="6424"/>
                </a:cubicBezTo>
                <a:cubicBezTo>
                  <a:pt x="12971" y="6609"/>
                  <a:pt x="12988" y="6840"/>
                  <a:pt x="13022" y="7020"/>
                </a:cubicBezTo>
                <a:cubicBezTo>
                  <a:pt x="13050" y="7167"/>
                  <a:pt x="13085" y="7318"/>
                  <a:pt x="13097" y="7466"/>
                </a:cubicBezTo>
                <a:cubicBezTo>
                  <a:pt x="13104" y="7545"/>
                  <a:pt x="13113" y="7677"/>
                  <a:pt x="13047" y="7739"/>
                </a:cubicBezTo>
                <a:cubicBezTo>
                  <a:pt x="12970" y="7811"/>
                  <a:pt x="12819" y="7789"/>
                  <a:pt x="12725" y="7789"/>
                </a:cubicBezTo>
                <a:cubicBezTo>
                  <a:pt x="12523" y="7789"/>
                  <a:pt x="12328" y="7794"/>
                  <a:pt x="12129" y="7813"/>
                </a:cubicBezTo>
                <a:cubicBezTo>
                  <a:pt x="12052" y="7820"/>
                  <a:pt x="12003" y="7814"/>
                  <a:pt x="11931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tural Log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ln x   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(for x &gt; 0)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Note that the natural log and the number e “cancel” each other ou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logarithm in exponential for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1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3040" y="2089080"/>
            <a:ext cx="777960" cy="2455920"/>
          </a:xfrm>
          <a:custGeom>
            <a:avLst/>
            <a:gdLst/>
            <a:ahLst/>
            <a:rect l="l" t="t" r="r" b="b"/>
            <a:pathLst>
              <a:path w="2159" h="6823">
                <a:moveTo>
                  <a:pt x="1910" y="5854"/>
                </a:moveTo>
                <a:cubicBezTo>
                  <a:pt x="1910" y="5829"/>
                  <a:pt x="1910" y="5821"/>
                  <a:pt x="1910" y="5804"/>
                </a:cubicBezTo>
                <a:cubicBezTo>
                  <a:pt x="1893" y="5832"/>
                  <a:pt x="1884" y="5839"/>
                  <a:pt x="1860" y="5879"/>
                </a:cubicBezTo>
                <a:cubicBezTo>
                  <a:pt x="1836" y="5920"/>
                  <a:pt x="1814" y="5961"/>
                  <a:pt x="1786" y="6003"/>
                </a:cubicBezTo>
                <a:cubicBezTo>
                  <a:pt x="1732" y="6083"/>
                  <a:pt x="1699" y="6161"/>
                  <a:pt x="1662" y="6251"/>
                </a:cubicBezTo>
                <a:cubicBezTo>
                  <a:pt x="1625" y="6342"/>
                  <a:pt x="1585" y="6439"/>
                  <a:pt x="1538" y="6524"/>
                </a:cubicBezTo>
                <a:cubicBezTo>
                  <a:pt x="1463" y="6659"/>
                  <a:pt x="1428" y="6794"/>
                  <a:pt x="1389" y="6945"/>
                </a:cubicBezTo>
                <a:cubicBezTo>
                  <a:pt x="1356" y="7073"/>
                  <a:pt x="1343" y="7210"/>
                  <a:pt x="1339" y="7342"/>
                </a:cubicBezTo>
                <a:cubicBezTo>
                  <a:pt x="1335" y="7484"/>
                  <a:pt x="1299" y="7620"/>
                  <a:pt x="1315" y="7764"/>
                </a:cubicBezTo>
                <a:cubicBezTo>
                  <a:pt x="1332" y="7916"/>
                  <a:pt x="1358" y="8060"/>
                  <a:pt x="1389" y="8210"/>
                </a:cubicBezTo>
                <a:cubicBezTo>
                  <a:pt x="1422" y="8368"/>
                  <a:pt x="1492" y="8505"/>
                  <a:pt x="1538" y="8657"/>
                </a:cubicBezTo>
                <a:cubicBezTo>
                  <a:pt x="1585" y="8811"/>
                  <a:pt x="1656" y="8958"/>
                  <a:pt x="1736" y="9103"/>
                </a:cubicBezTo>
                <a:cubicBezTo>
                  <a:pt x="1834" y="9281"/>
                  <a:pt x="1939" y="9438"/>
                  <a:pt x="2059" y="9599"/>
                </a:cubicBezTo>
                <a:cubicBezTo>
                  <a:pt x="2143" y="9712"/>
                  <a:pt x="2250" y="9781"/>
                  <a:pt x="2332" y="9897"/>
                </a:cubicBezTo>
                <a:cubicBezTo>
                  <a:pt x="2387" y="9975"/>
                  <a:pt x="2463" y="10073"/>
                  <a:pt x="2530" y="10120"/>
                </a:cubicBezTo>
                <a:cubicBezTo>
                  <a:pt x="2550" y="10134"/>
                  <a:pt x="2532" y="10111"/>
                  <a:pt x="2555" y="10120"/>
                </a:cubicBezTo>
              </a:path>
              <a:path w="2159" h="6823">
                <a:moveTo>
                  <a:pt x="2629" y="9823"/>
                </a:moveTo>
                <a:cubicBezTo>
                  <a:pt x="2693" y="9838"/>
                  <a:pt x="2706" y="9869"/>
                  <a:pt x="2753" y="9897"/>
                </a:cubicBezTo>
                <a:cubicBezTo>
                  <a:pt x="2787" y="9918"/>
                  <a:pt x="2866" y="9964"/>
                  <a:pt x="2902" y="9971"/>
                </a:cubicBezTo>
                <a:cubicBezTo>
                  <a:pt x="2949" y="9980"/>
                  <a:pt x="2988" y="9990"/>
                  <a:pt x="2977" y="10046"/>
                </a:cubicBezTo>
                <a:cubicBezTo>
                  <a:pt x="2964" y="10111"/>
                  <a:pt x="2832" y="10238"/>
                  <a:pt x="2778" y="10269"/>
                </a:cubicBezTo>
                <a:cubicBezTo>
                  <a:pt x="2694" y="10318"/>
                  <a:pt x="2692" y="10356"/>
                  <a:pt x="2629" y="10418"/>
                </a:cubicBezTo>
                <a:cubicBezTo>
                  <a:pt x="2588" y="10418"/>
                  <a:pt x="2579" y="10434"/>
                  <a:pt x="2604" y="10492"/>
                </a:cubicBezTo>
              </a:path>
              <a:path w="2159" h="6823">
                <a:moveTo>
                  <a:pt x="1935" y="7565"/>
                </a:moveTo>
                <a:cubicBezTo>
                  <a:pt x="1883" y="7626"/>
                  <a:pt x="1856" y="7674"/>
                  <a:pt x="1811" y="7739"/>
                </a:cubicBezTo>
                <a:cubicBezTo>
                  <a:pt x="1753" y="7823"/>
                  <a:pt x="1700" y="7888"/>
                  <a:pt x="1662" y="7987"/>
                </a:cubicBezTo>
                <a:cubicBezTo>
                  <a:pt x="1608" y="8127"/>
                  <a:pt x="1571" y="8287"/>
                  <a:pt x="1538" y="8434"/>
                </a:cubicBezTo>
                <a:cubicBezTo>
                  <a:pt x="1499" y="8607"/>
                  <a:pt x="1488" y="8751"/>
                  <a:pt x="1488" y="8930"/>
                </a:cubicBezTo>
                <a:cubicBezTo>
                  <a:pt x="1488" y="9103"/>
                  <a:pt x="1494" y="9279"/>
                  <a:pt x="1513" y="9451"/>
                </a:cubicBezTo>
                <a:cubicBezTo>
                  <a:pt x="1536" y="9655"/>
                  <a:pt x="1593" y="9848"/>
                  <a:pt x="1637" y="10046"/>
                </a:cubicBezTo>
                <a:cubicBezTo>
                  <a:pt x="1696" y="10312"/>
                  <a:pt x="1777" y="10562"/>
                  <a:pt x="1885" y="10815"/>
                </a:cubicBezTo>
                <a:cubicBezTo>
                  <a:pt x="1988" y="11056"/>
                  <a:pt x="2130" y="11297"/>
                  <a:pt x="2282" y="11509"/>
                </a:cubicBezTo>
                <a:cubicBezTo>
                  <a:pt x="2419" y="11700"/>
                  <a:pt x="2575" y="11879"/>
                  <a:pt x="2729" y="12055"/>
                </a:cubicBezTo>
                <a:cubicBezTo>
                  <a:pt x="2803" y="12140"/>
                  <a:pt x="2857" y="12243"/>
                  <a:pt x="2927" y="12328"/>
                </a:cubicBezTo>
                <a:cubicBezTo>
                  <a:pt x="2941" y="12345"/>
                  <a:pt x="3015" y="12400"/>
                  <a:pt x="3026" y="12402"/>
                </a:cubicBezTo>
                <a:cubicBezTo>
                  <a:pt x="3090" y="12415"/>
                  <a:pt x="3023" y="12362"/>
                  <a:pt x="3051" y="12353"/>
                </a:cubicBezTo>
              </a:path>
              <a:path w="2159" h="6823">
                <a:moveTo>
                  <a:pt x="3125" y="12005"/>
                </a:moveTo>
                <a:cubicBezTo>
                  <a:pt x="3137" y="12053"/>
                  <a:pt x="3173" y="12063"/>
                  <a:pt x="3200" y="12105"/>
                </a:cubicBezTo>
                <a:cubicBezTo>
                  <a:pt x="3233" y="12156"/>
                  <a:pt x="3295" y="12216"/>
                  <a:pt x="3349" y="12254"/>
                </a:cubicBezTo>
                <a:cubicBezTo>
                  <a:pt x="3385" y="12280"/>
                  <a:pt x="3452" y="12307"/>
                  <a:pt x="3473" y="12353"/>
                </a:cubicBezTo>
                <a:cubicBezTo>
                  <a:pt x="3489" y="12389"/>
                  <a:pt x="3454" y="12438"/>
                  <a:pt x="3423" y="12452"/>
                </a:cubicBezTo>
                <a:cubicBezTo>
                  <a:pt x="3363" y="12479"/>
                  <a:pt x="3288" y="12499"/>
                  <a:pt x="3225" y="12526"/>
                </a:cubicBezTo>
                <a:cubicBezTo>
                  <a:pt x="3157" y="12555"/>
                  <a:pt x="3092" y="12593"/>
                  <a:pt x="3026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4280" y="3241800"/>
            <a:ext cx="1179720" cy="615960"/>
          </a:xfrm>
          <a:custGeom>
            <a:avLst/>
            <a:gdLst/>
            <a:ahLst/>
            <a:rect l="l" t="t" r="r" b="b"/>
            <a:pathLst>
              <a:path w="3276" h="1713">
                <a:moveTo>
                  <a:pt x="4217" y="9748"/>
                </a:moveTo>
                <a:cubicBezTo>
                  <a:pt x="4210" y="9702"/>
                  <a:pt x="4218" y="9652"/>
                  <a:pt x="4192" y="9624"/>
                </a:cubicBezTo>
                <a:cubicBezTo>
                  <a:pt x="4183" y="9614"/>
                  <a:pt x="4053" y="9553"/>
                  <a:pt x="4043" y="9550"/>
                </a:cubicBezTo>
                <a:cubicBezTo>
                  <a:pt x="3972" y="9527"/>
                  <a:pt x="3902" y="9525"/>
                  <a:pt x="3820" y="9525"/>
                </a:cubicBezTo>
                <a:cubicBezTo>
                  <a:pt x="3728" y="9525"/>
                  <a:pt x="3607" y="9509"/>
                  <a:pt x="3522" y="9550"/>
                </a:cubicBezTo>
                <a:cubicBezTo>
                  <a:pt x="3460" y="9580"/>
                  <a:pt x="3437" y="9622"/>
                  <a:pt x="3398" y="9674"/>
                </a:cubicBezTo>
                <a:cubicBezTo>
                  <a:pt x="3363" y="9721"/>
                  <a:pt x="3373" y="9781"/>
                  <a:pt x="3423" y="9823"/>
                </a:cubicBezTo>
                <a:cubicBezTo>
                  <a:pt x="3498" y="9886"/>
                  <a:pt x="3564" y="9993"/>
                  <a:pt x="3646" y="10046"/>
                </a:cubicBezTo>
                <a:cubicBezTo>
                  <a:pt x="3748" y="10113"/>
                  <a:pt x="3860" y="10170"/>
                  <a:pt x="3944" y="10269"/>
                </a:cubicBezTo>
                <a:cubicBezTo>
                  <a:pt x="4001" y="10336"/>
                  <a:pt x="4079" y="10391"/>
                  <a:pt x="4043" y="10492"/>
                </a:cubicBezTo>
                <a:cubicBezTo>
                  <a:pt x="4035" y="10500"/>
                  <a:pt x="4026" y="10509"/>
                  <a:pt x="4018" y="10517"/>
                </a:cubicBezTo>
                <a:cubicBezTo>
                  <a:pt x="3956" y="10511"/>
                  <a:pt x="3906" y="10495"/>
                  <a:pt x="3845" y="10492"/>
                </a:cubicBezTo>
                <a:cubicBezTo>
                  <a:pt x="3765" y="10488"/>
                  <a:pt x="3698" y="10410"/>
                  <a:pt x="3671" y="10344"/>
                </a:cubicBezTo>
                <a:cubicBezTo>
                  <a:pt x="3659" y="10316"/>
                  <a:pt x="3637" y="10253"/>
                  <a:pt x="3671" y="10195"/>
                </a:cubicBezTo>
                <a:cubicBezTo>
                  <a:pt x="3706" y="10136"/>
                  <a:pt x="3825" y="10073"/>
                  <a:pt x="3845" y="10046"/>
                </a:cubicBezTo>
                <a:cubicBezTo>
                  <a:pt x="3918" y="9944"/>
                  <a:pt x="3978" y="9876"/>
                  <a:pt x="4068" y="9773"/>
                </a:cubicBezTo>
              </a:path>
              <a:path w="3276" h="1713">
                <a:moveTo>
                  <a:pt x="4390" y="9475"/>
                </a:moveTo>
                <a:cubicBezTo>
                  <a:pt x="4390" y="9571"/>
                  <a:pt x="4371" y="9653"/>
                  <a:pt x="4366" y="9748"/>
                </a:cubicBezTo>
                <a:cubicBezTo>
                  <a:pt x="4356" y="9932"/>
                  <a:pt x="4364" y="10116"/>
                  <a:pt x="4390" y="10294"/>
                </a:cubicBezTo>
                <a:cubicBezTo>
                  <a:pt x="4400" y="10366"/>
                  <a:pt x="4405" y="10426"/>
                  <a:pt x="4415" y="10492"/>
                </a:cubicBezTo>
                <a:cubicBezTo>
                  <a:pt x="4435" y="10446"/>
                  <a:pt x="4445" y="10415"/>
                  <a:pt x="4465" y="10368"/>
                </a:cubicBezTo>
              </a:path>
              <a:path w="3276" h="1713">
                <a:moveTo>
                  <a:pt x="4787" y="9971"/>
                </a:moveTo>
                <a:cubicBezTo>
                  <a:pt x="4846" y="9940"/>
                  <a:pt x="4936" y="9890"/>
                  <a:pt x="5011" y="9922"/>
                </a:cubicBezTo>
                <a:cubicBezTo>
                  <a:pt x="5106" y="9963"/>
                  <a:pt x="5130" y="9971"/>
                  <a:pt x="5234" y="9971"/>
                </a:cubicBezTo>
                <a:cubicBezTo>
                  <a:pt x="5292" y="9971"/>
                  <a:pt x="5300" y="9971"/>
                  <a:pt x="5333" y="9971"/>
                </a:cubicBezTo>
              </a:path>
              <a:path w="3276" h="1713">
                <a:moveTo>
                  <a:pt x="4812" y="10120"/>
                </a:moveTo>
                <a:cubicBezTo>
                  <a:pt x="4859" y="10155"/>
                  <a:pt x="4891" y="10118"/>
                  <a:pt x="4936" y="10145"/>
                </a:cubicBezTo>
                <a:cubicBezTo>
                  <a:pt x="5022" y="10196"/>
                  <a:pt x="5049" y="10195"/>
                  <a:pt x="5159" y="10195"/>
                </a:cubicBezTo>
                <a:cubicBezTo>
                  <a:pt x="5209" y="10195"/>
                  <a:pt x="5258" y="10195"/>
                  <a:pt x="5308" y="10195"/>
                </a:cubicBezTo>
              </a:path>
              <a:path w="3276" h="1713">
                <a:moveTo>
                  <a:pt x="5606" y="9599"/>
                </a:moveTo>
                <a:cubicBezTo>
                  <a:pt x="5619" y="9510"/>
                  <a:pt x="5600" y="9556"/>
                  <a:pt x="5655" y="9500"/>
                </a:cubicBezTo>
                <a:cubicBezTo>
                  <a:pt x="5689" y="9466"/>
                  <a:pt x="5756" y="9454"/>
                  <a:pt x="5804" y="9451"/>
                </a:cubicBezTo>
                <a:cubicBezTo>
                  <a:pt x="5895" y="9446"/>
                  <a:pt x="5994" y="9438"/>
                  <a:pt x="6077" y="9475"/>
                </a:cubicBezTo>
                <a:cubicBezTo>
                  <a:pt x="6147" y="9506"/>
                  <a:pt x="6132" y="9566"/>
                  <a:pt x="6127" y="9599"/>
                </a:cubicBezTo>
                <a:cubicBezTo>
                  <a:pt x="6113" y="9697"/>
                  <a:pt x="6026" y="9700"/>
                  <a:pt x="5978" y="9748"/>
                </a:cubicBezTo>
                <a:cubicBezTo>
                  <a:pt x="5935" y="9791"/>
                  <a:pt x="5857" y="9872"/>
                  <a:pt x="5804" y="9897"/>
                </a:cubicBezTo>
                <a:cubicBezTo>
                  <a:pt x="5772" y="9912"/>
                  <a:pt x="5765" y="9901"/>
                  <a:pt x="5730" y="9922"/>
                </a:cubicBezTo>
                <a:cubicBezTo>
                  <a:pt x="5766" y="9917"/>
                  <a:pt x="5803" y="9901"/>
                  <a:pt x="5829" y="9897"/>
                </a:cubicBezTo>
                <a:cubicBezTo>
                  <a:pt x="5877" y="9890"/>
                  <a:pt x="5990" y="9884"/>
                  <a:pt x="6028" y="9922"/>
                </a:cubicBezTo>
                <a:cubicBezTo>
                  <a:pt x="6061" y="9955"/>
                  <a:pt x="6115" y="10024"/>
                  <a:pt x="6127" y="10071"/>
                </a:cubicBezTo>
                <a:cubicBezTo>
                  <a:pt x="6154" y="10179"/>
                  <a:pt x="6133" y="10392"/>
                  <a:pt x="6102" y="10492"/>
                </a:cubicBezTo>
                <a:cubicBezTo>
                  <a:pt x="6082" y="10556"/>
                  <a:pt x="5983" y="10618"/>
                  <a:pt x="5953" y="10641"/>
                </a:cubicBezTo>
                <a:cubicBezTo>
                  <a:pt x="5896" y="10685"/>
                  <a:pt x="5840" y="10749"/>
                  <a:pt x="5755" y="10716"/>
                </a:cubicBezTo>
                <a:cubicBezTo>
                  <a:pt x="5729" y="10706"/>
                  <a:pt x="5621" y="10617"/>
                  <a:pt x="5606" y="10592"/>
                </a:cubicBezTo>
                <a:cubicBezTo>
                  <a:pt x="5566" y="10527"/>
                  <a:pt x="5597" y="10505"/>
                  <a:pt x="5606" y="10443"/>
                </a:cubicBezTo>
                <a:cubicBezTo>
                  <a:pt x="5606" y="10435"/>
                  <a:pt x="5606" y="10426"/>
                  <a:pt x="5606" y="10418"/>
                </a:cubicBezTo>
              </a:path>
              <a:path w="3276" h="1713">
                <a:moveTo>
                  <a:pt x="6350" y="9153"/>
                </a:moveTo>
                <a:cubicBezTo>
                  <a:pt x="6367" y="9153"/>
                  <a:pt x="6383" y="9153"/>
                  <a:pt x="6400" y="9153"/>
                </a:cubicBezTo>
                <a:cubicBezTo>
                  <a:pt x="6388" y="9212"/>
                  <a:pt x="6338" y="9275"/>
                  <a:pt x="6325" y="9327"/>
                </a:cubicBezTo>
                <a:cubicBezTo>
                  <a:pt x="6325" y="9343"/>
                  <a:pt x="6325" y="9360"/>
                  <a:pt x="6325" y="9376"/>
                </a:cubicBezTo>
                <a:cubicBezTo>
                  <a:pt x="6440" y="9376"/>
                  <a:pt x="6496" y="9387"/>
                  <a:pt x="6573" y="9327"/>
                </a:cubicBezTo>
                <a:cubicBezTo>
                  <a:pt x="6623" y="9302"/>
                  <a:pt x="6640" y="9294"/>
                  <a:pt x="6648" y="9252"/>
                </a:cubicBezTo>
              </a:path>
              <a:path w="3276" h="1713">
                <a:moveTo>
                  <a:pt x="6648" y="9004"/>
                </a:moveTo>
                <a:cubicBezTo>
                  <a:pt x="6648" y="9109"/>
                  <a:pt x="6634" y="9201"/>
                  <a:pt x="6623" y="9302"/>
                </a:cubicBezTo>
                <a:cubicBezTo>
                  <a:pt x="6612" y="9399"/>
                  <a:pt x="6602" y="9503"/>
                  <a:pt x="6598" y="9599"/>
                </a:cubicBezTo>
                <a:cubicBezTo>
                  <a:pt x="6596" y="9648"/>
                  <a:pt x="6598" y="9699"/>
                  <a:pt x="6598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57200" y="4276800"/>
            <a:ext cx="1357560" cy="527040"/>
          </a:xfrm>
          <a:custGeom>
            <a:avLst/>
            <a:gdLst/>
            <a:ahLst/>
            <a:rect l="l" t="t" r="r" b="b"/>
            <a:pathLst>
              <a:path w="3772" h="1465">
                <a:moveTo>
                  <a:pt x="3770" y="12005"/>
                </a:moveTo>
                <a:cubicBezTo>
                  <a:pt x="3777" y="11954"/>
                  <a:pt x="3781" y="11945"/>
                  <a:pt x="3820" y="11906"/>
                </a:cubicBezTo>
                <a:cubicBezTo>
                  <a:pt x="3846" y="11880"/>
                  <a:pt x="3840" y="11883"/>
                  <a:pt x="3894" y="11881"/>
                </a:cubicBezTo>
                <a:cubicBezTo>
                  <a:pt x="3954" y="11878"/>
                  <a:pt x="4038" y="11890"/>
                  <a:pt x="4093" y="11906"/>
                </a:cubicBezTo>
                <a:cubicBezTo>
                  <a:pt x="4159" y="11925"/>
                  <a:pt x="4336" y="11990"/>
                  <a:pt x="4366" y="12055"/>
                </a:cubicBezTo>
                <a:cubicBezTo>
                  <a:pt x="4415" y="12160"/>
                  <a:pt x="4339" y="12229"/>
                  <a:pt x="4266" y="12278"/>
                </a:cubicBezTo>
                <a:cubicBezTo>
                  <a:pt x="4227" y="12304"/>
                  <a:pt x="4135" y="12367"/>
                  <a:pt x="4093" y="12378"/>
                </a:cubicBezTo>
                <a:cubicBezTo>
                  <a:pt x="4026" y="12396"/>
                  <a:pt x="4061" y="12377"/>
                  <a:pt x="4018" y="12402"/>
                </a:cubicBezTo>
                <a:cubicBezTo>
                  <a:pt x="4071" y="12418"/>
                  <a:pt x="4136" y="12442"/>
                  <a:pt x="4192" y="12452"/>
                </a:cubicBezTo>
                <a:cubicBezTo>
                  <a:pt x="4281" y="12468"/>
                  <a:pt x="4339" y="12522"/>
                  <a:pt x="4390" y="12601"/>
                </a:cubicBezTo>
                <a:cubicBezTo>
                  <a:pt x="4441" y="12679"/>
                  <a:pt x="4478" y="12806"/>
                  <a:pt x="4465" y="12898"/>
                </a:cubicBezTo>
                <a:cubicBezTo>
                  <a:pt x="4453" y="12980"/>
                  <a:pt x="4408" y="13057"/>
                  <a:pt x="4341" y="13097"/>
                </a:cubicBezTo>
                <a:cubicBezTo>
                  <a:pt x="4270" y="13139"/>
                  <a:pt x="4222" y="13146"/>
                  <a:pt x="4142" y="13146"/>
                </a:cubicBezTo>
                <a:cubicBezTo>
                  <a:pt x="4060" y="13146"/>
                  <a:pt x="3950" y="13057"/>
                  <a:pt x="3894" y="12998"/>
                </a:cubicBezTo>
                <a:cubicBezTo>
                  <a:pt x="3851" y="12952"/>
                  <a:pt x="3835" y="12927"/>
                  <a:pt x="3820" y="12874"/>
                </a:cubicBezTo>
              </a:path>
              <a:path w="3772" h="1465">
                <a:moveTo>
                  <a:pt x="4638" y="12129"/>
                </a:moveTo>
                <a:cubicBezTo>
                  <a:pt x="4723" y="12099"/>
                  <a:pt x="4824" y="12053"/>
                  <a:pt x="4911" y="12105"/>
                </a:cubicBezTo>
                <a:cubicBezTo>
                  <a:pt x="5045" y="12186"/>
                  <a:pt x="5142" y="12321"/>
                  <a:pt x="5159" y="12477"/>
                </a:cubicBezTo>
                <a:cubicBezTo>
                  <a:pt x="5175" y="12618"/>
                  <a:pt x="5113" y="12785"/>
                  <a:pt x="5035" y="12898"/>
                </a:cubicBezTo>
                <a:cubicBezTo>
                  <a:pt x="4996" y="12954"/>
                  <a:pt x="4905" y="13053"/>
                  <a:pt x="4837" y="13072"/>
                </a:cubicBezTo>
                <a:cubicBezTo>
                  <a:pt x="4786" y="13086"/>
                  <a:pt x="4755" y="13097"/>
                  <a:pt x="4713" y="13072"/>
                </a:cubicBezTo>
                <a:cubicBezTo>
                  <a:pt x="4684" y="13055"/>
                  <a:pt x="4653" y="12979"/>
                  <a:pt x="4663" y="12948"/>
                </a:cubicBezTo>
                <a:cubicBezTo>
                  <a:pt x="4676" y="12910"/>
                  <a:pt x="4700" y="12882"/>
                  <a:pt x="4738" y="12874"/>
                </a:cubicBezTo>
                <a:cubicBezTo>
                  <a:pt x="4824" y="12855"/>
                  <a:pt x="4849" y="12907"/>
                  <a:pt x="4911" y="12948"/>
                </a:cubicBezTo>
                <a:cubicBezTo>
                  <a:pt x="4987" y="12999"/>
                  <a:pt x="5045" y="13057"/>
                  <a:pt x="5110" y="13122"/>
                </a:cubicBezTo>
                <a:cubicBezTo>
                  <a:pt x="5135" y="13147"/>
                  <a:pt x="5240" y="13250"/>
                  <a:pt x="5283" y="13246"/>
                </a:cubicBezTo>
                <a:cubicBezTo>
                  <a:pt x="5334" y="13242"/>
                  <a:pt x="5362" y="13163"/>
                  <a:pt x="5383" y="13122"/>
                </a:cubicBezTo>
              </a:path>
              <a:path w="3772" h="1465">
                <a:moveTo>
                  <a:pt x="5482" y="12526"/>
                </a:moveTo>
                <a:cubicBezTo>
                  <a:pt x="5532" y="12520"/>
                  <a:pt x="5784" y="12527"/>
                  <a:pt x="5854" y="12502"/>
                </a:cubicBezTo>
                <a:cubicBezTo>
                  <a:pt x="5878" y="12493"/>
                  <a:pt x="5908" y="12468"/>
                  <a:pt x="5928" y="12452"/>
                </a:cubicBezTo>
              </a:path>
              <a:path w="3772" h="1465">
                <a:moveTo>
                  <a:pt x="5581" y="12849"/>
                </a:moveTo>
                <a:cubicBezTo>
                  <a:pt x="5697" y="12849"/>
                  <a:pt x="5818" y="12864"/>
                  <a:pt x="5928" y="12824"/>
                </a:cubicBezTo>
                <a:cubicBezTo>
                  <a:pt x="5972" y="12802"/>
                  <a:pt x="5984" y="12799"/>
                  <a:pt x="6003" y="12774"/>
                </a:cubicBezTo>
              </a:path>
              <a:path w="3772" h="1465">
                <a:moveTo>
                  <a:pt x="6325" y="12378"/>
                </a:moveTo>
                <a:cubicBezTo>
                  <a:pt x="6351" y="12352"/>
                  <a:pt x="6329" y="12357"/>
                  <a:pt x="6350" y="12328"/>
                </a:cubicBezTo>
                <a:cubicBezTo>
                  <a:pt x="6373" y="12296"/>
                  <a:pt x="6417" y="12285"/>
                  <a:pt x="6449" y="12254"/>
                </a:cubicBezTo>
                <a:cubicBezTo>
                  <a:pt x="6496" y="12207"/>
                  <a:pt x="6506" y="12207"/>
                  <a:pt x="6573" y="12204"/>
                </a:cubicBezTo>
                <a:cubicBezTo>
                  <a:pt x="6671" y="12199"/>
                  <a:pt x="6687" y="12210"/>
                  <a:pt x="6747" y="12278"/>
                </a:cubicBezTo>
                <a:cubicBezTo>
                  <a:pt x="6827" y="12369"/>
                  <a:pt x="6867" y="12398"/>
                  <a:pt x="6871" y="12526"/>
                </a:cubicBezTo>
                <a:cubicBezTo>
                  <a:pt x="6875" y="12664"/>
                  <a:pt x="6849" y="12819"/>
                  <a:pt x="6796" y="12948"/>
                </a:cubicBezTo>
                <a:cubicBezTo>
                  <a:pt x="6759" y="13039"/>
                  <a:pt x="6690" y="13125"/>
                  <a:pt x="6623" y="13196"/>
                </a:cubicBezTo>
                <a:cubicBezTo>
                  <a:pt x="6566" y="13257"/>
                  <a:pt x="6525" y="13263"/>
                  <a:pt x="6449" y="13271"/>
                </a:cubicBezTo>
                <a:cubicBezTo>
                  <a:pt x="6449" y="13196"/>
                  <a:pt x="6441" y="13133"/>
                  <a:pt x="6474" y="13072"/>
                </a:cubicBezTo>
                <a:cubicBezTo>
                  <a:pt x="6515" y="12995"/>
                  <a:pt x="6547" y="12984"/>
                  <a:pt x="6623" y="13022"/>
                </a:cubicBezTo>
                <a:cubicBezTo>
                  <a:pt x="6689" y="13055"/>
                  <a:pt x="6744" y="13119"/>
                  <a:pt x="6796" y="13171"/>
                </a:cubicBezTo>
                <a:cubicBezTo>
                  <a:pt x="6858" y="13233"/>
                  <a:pt x="6957" y="13377"/>
                  <a:pt x="7069" y="13345"/>
                </a:cubicBezTo>
                <a:cubicBezTo>
                  <a:pt x="7113" y="13332"/>
                  <a:pt x="7133" y="13225"/>
                  <a:pt x="7144" y="13196"/>
                </a:cubicBezTo>
              </a:path>
              <a:path w="3772" h="1465">
                <a:moveTo>
                  <a:pt x="7144" y="12080"/>
                </a:moveTo>
                <a:cubicBezTo>
                  <a:pt x="7269" y="12068"/>
                  <a:pt x="7346" y="12080"/>
                  <a:pt x="7466" y="12080"/>
                </a:cubicBezTo>
                <a:cubicBezTo>
                  <a:pt x="7483" y="12080"/>
                  <a:pt x="7499" y="12080"/>
                  <a:pt x="7516" y="12080"/>
                </a:cubicBezTo>
              </a:path>
              <a:path w="3772" h="1465">
                <a:moveTo>
                  <a:pt x="7169" y="12030"/>
                </a:moveTo>
                <a:cubicBezTo>
                  <a:pt x="7163" y="12044"/>
                  <a:pt x="7069" y="12209"/>
                  <a:pt x="7094" y="12254"/>
                </a:cubicBezTo>
                <a:cubicBezTo>
                  <a:pt x="7105" y="12273"/>
                  <a:pt x="7138" y="12325"/>
                  <a:pt x="7144" y="12328"/>
                </a:cubicBezTo>
                <a:cubicBezTo>
                  <a:pt x="7167" y="12340"/>
                  <a:pt x="7249" y="12349"/>
                  <a:pt x="7268" y="12353"/>
                </a:cubicBezTo>
                <a:cubicBezTo>
                  <a:pt x="7370" y="12374"/>
                  <a:pt x="7376" y="12399"/>
                  <a:pt x="7441" y="12477"/>
                </a:cubicBezTo>
                <a:cubicBezTo>
                  <a:pt x="7514" y="12564"/>
                  <a:pt x="7536" y="12660"/>
                  <a:pt x="7541" y="12774"/>
                </a:cubicBezTo>
                <a:cubicBezTo>
                  <a:pt x="7545" y="12867"/>
                  <a:pt x="7492" y="12849"/>
                  <a:pt x="7417" y="12849"/>
                </a:cubicBezTo>
                <a:cubicBezTo>
                  <a:pt x="7323" y="12849"/>
                  <a:pt x="7232" y="12809"/>
                  <a:pt x="7144" y="12774"/>
                </a:cubicBezTo>
                <a:cubicBezTo>
                  <a:pt x="7084" y="12745"/>
                  <a:pt x="7058" y="12731"/>
                  <a:pt x="7020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e the exponent in log for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4680" y="2054160"/>
            <a:ext cx="536400" cy="1428840"/>
          </a:xfrm>
          <a:custGeom>
            <a:avLst/>
            <a:gdLst/>
            <a:ahLst/>
            <a:rect l="l" t="t" r="r" b="b"/>
            <a:pathLst>
              <a:path w="1489" h="3970">
                <a:moveTo>
                  <a:pt x="1984" y="5705"/>
                </a:moveTo>
                <a:cubicBezTo>
                  <a:pt x="1913" y="5790"/>
                  <a:pt x="1861" y="5852"/>
                  <a:pt x="1811" y="5953"/>
                </a:cubicBezTo>
                <a:cubicBezTo>
                  <a:pt x="1731" y="6116"/>
                  <a:pt x="1697" y="6281"/>
                  <a:pt x="1637" y="6449"/>
                </a:cubicBezTo>
                <a:cubicBezTo>
                  <a:pt x="1584" y="6598"/>
                  <a:pt x="1549" y="6736"/>
                  <a:pt x="1538" y="6896"/>
                </a:cubicBezTo>
                <a:cubicBezTo>
                  <a:pt x="1525" y="7079"/>
                  <a:pt x="1513" y="7257"/>
                  <a:pt x="1513" y="7441"/>
                </a:cubicBezTo>
                <a:cubicBezTo>
                  <a:pt x="1513" y="7677"/>
                  <a:pt x="1571" y="7904"/>
                  <a:pt x="1612" y="8136"/>
                </a:cubicBezTo>
                <a:cubicBezTo>
                  <a:pt x="1646" y="8329"/>
                  <a:pt x="1727" y="8460"/>
                  <a:pt x="1811" y="8632"/>
                </a:cubicBezTo>
                <a:cubicBezTo>
                  <a:pt x="1908" y="8831"/>
                  <a:pt x="2009" y="8949"/>
                  <a:pt x="2183" y="9079"/>
                </a:cubicBezTo>
                <a:cubicBezTo>
                  <a:pt x="2326" y="9186"/>
                  <a:pt x="2459" y="9296"/>
                  <a:pt x="2604" y="9401"/>
                </a:cubicBezTo>
                <a:cubicBezTo>
                  <a:pt x="2710" y="9478"/>
                  <a:pt x="2866" y="9519"/>
                  <a:pt x="2952" y="9599"/>
                </a:cubicBezTo>
                <a:cubicBezTo>
                  <a:pt x="3068" y="9706"/>
                  <a:pt x="2987" y="9665"/>
                  <a:pt x="2977" y="95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1040" y="2714760"/>
            <a:ext cx="2581200" cy="1724040"/>
          </a:xfrm>
          <a:custGeom>
            <a:avLst/>
            <a:gdLst/>
            <a:ahLst/>
            <a:rect l="l" t="t" r="r" b="b"/>
            <a:pathLst>
              <a:path w="7170" h="4788">
                <a:moveTo>
                  <a:pt x="2952" y="9227"/>
                </a:moveTo>
                <a:cubicBezTo>
                  <a:pt x="3019" y="9241"/>
                  <a:pt x="3046" y="9279"/>
                  <a:pt x="3101" y="9302"/>
                </a:cubicBezTo>
                <a:cubicBezTo>
                  <a:pt x="3179" y="9334"/>
                  <a:pt x="3230" y="9406"/>
                  <a:pt x="3299" y="9451"/>
                </a:cubicBezTo>
                <a:cubicBezTo>
                  <a:pt x="3358" y="9490"/>
                  <a:pt x="3383" y="9551"/>
                  <a:pt x="3299" y="9599"/>
                </a:cubicBezTo>
                <a:cubicBezTo>
                  <a:pt x="3196" y="9658"/>
                  <a:pt x="3071" y="9674"/>
                  <a:pt x="2977" y="9748"/>
                </a:cubicBezTo>
                <a:cubicBezTo>
                  <a:pt x="2941" y="9776"/>
                  <a:pt x="2838" y="9841"/>
                  <a:pt x="2828" y="9897"/>
                </a:cubicBezTo>
                <a:cubicBezTo>
                  <a:pt x="2828" y="9922"/>
                  <a:pt x="2828" y="9946"/>
                  <a:pt x="2828" y="9971"/>
                </a:cubicBezTo>
              </a:path>
              <a:path w="7170" h="4788">
                <a:moveTo>
                  <a:pt x="3919" y="8706"/>
                </a:moveTo>
                <a:cubicBezTo>
                  <a:pt x="3893" y="8732"/>
                  <a:pt x="3877" y="8867"/>
                  <a:pt x="3870" y="8930"/>
                </a:cubicBezTo>
                <a:cubicBezTo>
                  <a:pt x="3832" y="9283"/>
                  <a:pt x="3887" y="9644"/>
                  <a:pt x="3845" y="9996"/>
                </a:cubicBezTo>
                <a:cubicBezTo>
                  <a:pt x="3838" y="10053"/>
                  <a:pt x="3813" y="10158"/>
                  <a:pt x="3870" y="10120"/>
                </a:cubicBezTo>
              </a:path>
              <a:path w="7170" h="4788">
                <a:moveTo>
                  <a:pt x="4142" y="9451"/>
                </a:moveTo>
                <a:cubicBezTo>
                  <a:pt x="4142" y="9539"/>
                  <a:pt x="4122" y="9590"/>
                  <a:pt x="4093" y="9674"/>
                </a:cubicBezTo>
                <a:cubicBezTo>
                  <a:pt x="4064" y="9758"/>
                  <a:pt x="4047" y="9839"/>
                  <a:pt x="4043" y="9922"/>
                </a:cubicBezTo>
                <a:cubicBezTo>
                  <a:pt x="4041" y="9969"/>
                  <a:pt x="4068" y="10095"/>
                  <a:pt x="4118" y="10120"/>
                </a:cubicBezTo>
                <a:cubicBezTo>
                  <a:pt x="4197" y="10160"/>
                  <a:pt x="4328" y="10104"/>
                  <a:pt x="4390" y="10071"/>
                </a:cubicBezTo>
                <a:cubicBezTo>
                  <a:pt x="4509" y="10009"/>
                  <a:pt x="4560" y="9904"/>
                  <a:pt x="4589" y="9773"/>
                </a:cubicBezTo>
                <a:cubicBezTo>
                  <a:pt x="4603" y="9709"/>
                  <a:pt x="4598" y="9559"/>
                  <a:pt x="4564" y="9500"/>
                </a:cubicBezTo>
                <a:cubicBezTo>
                  <a:pt x="4519" y="9421"/>
                  <a:pt x="4452" y="9339"/>
                  <a:pt x="4366" y="9302"/>
                </a:cubicBezTo>
                <a:cubicBezTo>
                  <a:pt x="4314" y="9280"/>
                  <a:pt x="4186" y="9297"/>
                  <a:pt x="4142" y="9327"/>
                </a:cubicBezTo>
                <a:cubicBezTo>
                  <a:pt x="4079" y="9370"/>
                  <a:pt x="4035" y="9469"/>
                  <a:pt x="4018" y="9525"/>
                </a:cubicBezTo>
                <a:cubicBezTo>
                  <a:pt x="3990" y="9616"/>
                  <a:pt x="3988" y="9664"/>
                  <a:pt x="4018" y="9748"/>
                </a:cubicBezTo>
                <a:cubicBezTo>
                  <a:pt x="4040" y="9814"/>
                  <a:pt x="4039" y="9839"/>
                  <a:pt x="4093" y="9823"/>
                </a:cubicBezTo>
              </a:path>
              <a:path w="7170" h="4788">
                <a:moveTo>
                  <a:pt x="4986" y="9525"/>
                </a:moveTo>
                <a:cubicBezTo>
                  <a:pt x="4994" y="9508"/>
                  <a:pt x="5003" y="9492"/>
                  <a:pt x="5011" y="9475"/>
                </a:cubicBezTo>
                <a:cubicBezTo>
                  <a:pt x="4977" y="9455"/>
                  <a:pt x="4934" y="9434"/>
                  <a:pt x="4887" y="9451"/>
                </a:cubicBezTo>
                <a:cubicBezTo>
                  <a:pt x="4819" y="9476"/>
                  <a:pt x="4775" y="9541"/>
                  <a:pt x="4738" y="9599"/>
                </a:cubicBezTo>
                <a:cubicBezTo>
                  <a:pt x="4683" y="9683"/>
                  <a:pt x="4642" y="9716"/>
                  <a:pt x="4663" y="9823"/>
                </a:cubicBezTo>
                <a:cubicBezTo>
                  <a:pt x="4676" y="9889"/>
                  <a:pt x="4696" y="9903"/>
                  <a:pt x="4762" y="9922"/>
                </a:cubicBezTo>
                <a:cubicBezTo>
                  <a:pt x="4821" y="9939"/>
                  <a:pt x="4896" y="9881"/>
                  <a:pt x="4936" y="9847"/>
                </a:cubicBezTo>
                <a:cubicBezTo>
                  <a:pt x="4982" y="9809"/>
                  <a:pt x="5036" y="9728"/>
                  <a:pt x="5060" y="9674"/>
                </a:cubicBezTo>
                <a:cubicBezTo>
                  <a:pt x="5090" y="9607"/>
                  <a:pt x="5085" y="9546"/>
                  <a:pt x="5085" y="9475"/>
                </a:cubicBezTo>
                <a:cubicBezTo>
                  <a:pt x="5085" y="9467"/>
                  <a:pt x="5085" y="9459"/>
                  <a:pt x="5085" y="9451"/>
                </a:cubicBezTo>
                <a:cubicBezTo>
                  <a:pt x="5052" y="9505"/>
                  <a:pt x="5060" y="9555"/>
                  <a:pt x="5060" y="9624"/>
                </a:cubicBezTo>
                <a:cubicBezTo>
                  <a:pt x="5060" y="9751"/>
                  <a:pt x="5095" y="9846"/>
                  <a:pt x="5110" y="9971"/>
                </a:cubicBezTo>
                <a:cubicBezTo>
                  <a:pt x="5125" y="10093"/>
                  <a:pt x="5138" y="10223"/>
                  <a:pt x="5159" y="10344"/>
                </a:cubicBezTo>
                <a:cubicBezTo>
                  <a:pt x="5183" y="10479"/>
                  <a:pt x="5166" y="10564"/>
                  <a:pt x="5110" y="10691"/>
                </a:cubicBezTo>
                <a:cubicBezTo>
                  <a:pt x="5080" y="10760"/>
                  <a:pt x="4985" y="10803"/>
                  <a:pt x="4911" y="10815"/>
                </a:cubicBezTo>
                <a:cubicBezTo>
                  <a:pt x="4810" y="10831"/>
                  <a:pt x="4712" y="10798"/>
                  <a:pt x="4614" y="10790"/>
                </a:cubicBezTo>
              </a:path>
              <a:path w="7170" h="4788">
                <a:moveTo>
                  <a:pt x="5730" y="10071"/>
                </a:moveTo>
                <a:cubicBezTo>
                  <a:pt x="5692" y="10058"/>
                  <a:pt x="5709" y="10046"/>
                  <a:pt x="5655" y="10046"/>
                </a:cubicBezTo>
                <a:cubicBezTo>
                  <a:pt x="5606" y="10046"/>
                  <a:pt x="5556" y="10046"/>
                  <a:pt x="5507" y="10046"/>
                </a:cubicBezTo>
                <a:cubicBezTo>
                  <a:pt x="5507" y="10121"/>
                  <a:pt x="5512" y="10110"/>
                  <a:pt x="5556" y="10145"/>
                </a:cubicBezTo>
                <a:cubicBezTo>
                  <a:pt x="5634" y="10207"/>
                  <a:pt x="5622" y="10286"/>
                  <a:pt x="5680" y="10344"/>
                </a:cubicBezTo>
                <a:cubicBezTo>
                  <a:pt x="5704" y="10368"/>
                  <a:pt x="5725" y="10437"/>
                  <a:pt x="5730" y="10492"/>
                </a:cubicBezTo>
                <a:cubicBezTo>
                  <a:pt x="5734" y="10541"/>
                  <a:pt x="5696" y="10578"/>
                  <a:pt x="5655" y="10592"/>
                </a:cubicBezTo>
                <a:cubicBezTo>
                  <a:pt x="5616" y="10605"/>
                  <a:pt x="5566" y="10545"/>
                  <a:pt x="5556" y="10517"/>
                </a:cubicBezTo>
                <a:cubicBezTo>
                  <a:pt x="5550" y="10500"/>
                  <a:pt x="5591" y="10446"/>
                  <a:pt x="5606" y="10418"/>
                </a:cubicBezTo>
                <a:cubicBezTo>
                  <a:pt x="5639" y="10357"/>
                  <a:pt x="5655" y="10339"/>
                  <a:pt x="5680" y="10294"/>
                </a:cubicBezTo>
                <a:cubicBezTo>
                  <a:pt x="5708" y="10243"/>
                  <a:pt x="5721" y="10205"/>
                  <a:pt x="5730" y="10145"/>
                </a:cubicBezTo>
              </a:path>
              <a:path w="7170" h="4788">
                <a:moveTo>
                  <a:pt x="6251" y="9004"/>
                </a:moveTo>
                <a:cubicBezTo>
                  <a:pt x="6271" y="8963"/>
                  <a:pt x="6290" y="8947"/>
                  <a:pt x="6251" y="8954"/>
                </a:cubicBezTo>
                <a:cubicBezTo>
                  <a:pt x="6251" y="9031"/>
                  <a:pt x="6228" y="9034"/>
                  <a:pt x="6201" y="9079"/>
                </a:cubicBezTo>
                <a:cubicBezTo>
                  <a:pt x="6167" y="9137"/>
                  <a:pt x="6149" y="9235"/>
                  <a:pt x="6127" y="9302"/>
                </a:cubicBezTo>
                <a:cubicBezTo>
                  <a:pt x="6095" y="9398"/>
                  <a:pt x="6042" y="9498"/>
                  <a:pt x="6028" y="9599"/>
                </a:cubicBezTo>
                <a:cubicBezTo>
                  <a:pt x="6016" y="9689"/>
                  <a:pt x="6002" y="9734"/>
                  <a:pt x="6052" y="9823"/>
                </a:cubicBezTo>
                <a:cubicBezTo>
                  <a:pt x="6073" y="9859"/>
                  <a:pt x="6123" y="9928"/>
                  <a:pt x="6176" y="9922"/>
                </a:cubicBezTo>
                <a:cubicBezTo>
                  <a:pt x="6292" y="9908"/>
                  <a:pt x="6327" y="9864"/>
                  <a:pt x="6424" y="9823"/>
                </a:cubicBezTo>
                <a:cubicBezTo>
                  <a:pt x="6484" y="9797"/>
                  <a:pt x="6518" y="9758"/>
                  <a:pt x="6524" y="9674"/>
                </a:cubicBezTo>
                <a:cubicBezTo>
                  <a:pt x="6529" y="9605"/>
                  <a:pt x="6508" y="9599"/>
                  <a:pt x="6449" y="9599"/>
                </a:cubicBezTo>
                <a:cubicBezTo>
                  <a:pt x="6390" y="9599"/>
                  <a:pt x="6310" y="9636"/>
                  <a:pt x="6276" y="9674"/>
                </a:cubicBezTo>
                <a:cubicBezTo>
                  <a:pt x="6222" y="9734"/>
                  <a:pt x="6211" y="9755"/>
                  <a:pt x="6201" y="9823"/>
                </a:cubicBezTo>
                <a:cubicBezTo>
                  <a:pt x="6264" y="9838"/>
                  <a:pt x="6228" y="9827"/>
                  <a:pt x="6276" y="9823"/>
                </a:cubicBezTo>
                <a:cubicBezTo>
                  <a:pt x="6292" y="9823"/>
                  <a:pt x="6309" y="9823"/>
                  <a:pt x="6325" y="9823"/>
                </a:cubicBezTo>
              </a:path>
              <a:path w="7170" h="4788">
                <a:moveTo>
                  <a:pt x="6747" y="9029"/>
                </a:moveTo>
                <a:cubicBezTo>
                  <a:pt x="6716" y="9099"/>
                  <a:pt x="6677" y="9175"/>
                  <a:pt x="6672" y="9252"/>
                </a:cubicBezTo>
                <a:cubicBezTo>
                  <a:pt x="6669" y="9305"/>
                  <a:pt x="6689" y="9324"/>
                  <a:pt x="6697" y="9376"/>
                </a:cubicBezTo>
                <a:cubicBezTo>
                  <a:pt x="6813" y="9376"/>
                  <a:pt x="6890" y="9385"/>
                  <a:pt x="6970" y="9327"/>
                </a:cubicBezTo>
                <a:cubicBezTo>
                  <a:pt x="6987" y="9319"/>
                  <a:pt x="7003" y="9310"/>
                  <a:pt x="7020" y="9302"/>
                </a:cubicBezTo>
              </a:path>
              <a:path w="7170" h="4788">
                <a:moveTo>
                  <a:pt x="7045" y="8806"/>
                </a:moveTo>
                <a:cubicBezTo>
                  <a:pt x="7011" y="8940"/>
                  <a:pt x="6990" y="9089"/>
                  <a:pt x="6970" y="9227"/>
                </a:cubicBezTo>
                <a:cubicBezTo>
                  <a:pt x="6949" y="9372"/>
                  <a:pt x="6929" y="9529"/>
                  <a:pt x="6921" y="9674"/>
                </a:cubicBezTo>
                <a:cubicBezTo>
                  <a:pt x="6918" y="9724"/>
                  <a:pt x="6895" y="9841"/>
                  <a:pt x="6945" y="9847"/>
                </a:cubicBezTo>
                <a:cubicBezTo>
                  <a:pt x="6973" y="9847"/>
                  <a:pt x="6984" y="9845"/>
                  <a:pt x="6995" y="9823"/>
                </a:cubicBezTo>
              </a:path>
              <a:path w="7170" h="4788">
                <a:moveTo>
                  <a:pt x="7317" y="9401"/>
                </a:moveTo>
                <a:cubicBezTo>
                  <a:pt x="7461" y="9386"/>
                  <a:pt x="7579" y="9387"/>
                  <a:pt x="7689" y="9327"/>
                </a:cubicBezTo>
                <a:cubicBezTo>
                  <a:pt x="7697" y="9319"/>
                  <a:pt x="7706" y="9310"/>
                  <a:pt x="7714" y="9302"/>
                </a:cubicBezTo>
              </a:path>
              <a:path w="7170" h="4788">
                <a:moveTo>
                  <a:pt x="7367" y="9475"/>
                </a:moveTo>
                <a:cubicBezTo>
                  <a:pt x="7491" y="9475"/>
                  <a:pt x="7657" y="9341"/>
                  <a:pt x="7714" y="9451"/>
                </a:cubicBezTo>
                <a:cubicBezTo>
                  <a:pt x="7714" y="9475"/>
                  <a:pt x="7714" y="9483"/>
                  <a:pt x="7714" y="9451"/>
                </a:cubicBezTo>
              </a:path>
              <a:path w="7170" h="4788">
                <a:moveTo>
                  <a:pt x="8037" y="8954"/>
                </a:moveTo>
                <a:cubicBezTo>
                  <a:pt x="8128" y="8871"/>
                  <a:pt x="8142" y="8855"/>
                  <a:pt x="8260" y="8855"/>
                </a:cubicBezTo>
                <a:cubicBezTo>
                  <a:pt x="8332" y="8855"/>
                  <a:pt x="8422" y="8835"/>
                  <a:pt x="8483" y="8880"/>
                </a:cubicBezTo>
                <a:cubicBezTo>
                  <a:pt x="8522" y="8908"/>
                  <a:pt x="8610" y="8978"/>
                  <a:pt x="8607" y="9029"/>
                </a:cubicBezTo>
                <a:cubicBezTo>
                  <a:pt x="8604" y="9077"/>
                  <a:pt x="8537" y="9211"/>
                  <a:pt x="8508" y="9252"/>
                </a:cubicBezTo>
                <a:cubicBezTo>
                  <a:pt x="8427" y="9367"/>
                  <a:pt x="8327" y="9447"/>
                  <a:pt x="8235" y="9550"/>
                </a:cubicBezTo>
                <a:cubicBezTo>
                  <a:pt x="8173" y="9619"/>
                  <a:pt x="8126" y="9704"/>
                  <a:pt x="8062" y="9773"/>
                </a:cubicBezTo>
                <a:cubicBezTo>
                  <a:pt x="7999" y="9840"/>
                  <a:pt x="7926" y="9881"/>
                  <a:pt x="7913" y="9971"/>
                </a:cubicBezTo>
                <a:cubicBezTo>
                  <a:pt x="7962" y="9957"/>
                  <a:pt x="7968" y="9933"/>
                  <a:pt x="8012" y="9922"/>
                </a:cubicBezTo>
                <a:cubicBezTo>
                  <a:pt x="8161" y="9883"/>
                  <a:pt x="8323" y="9944"/>
                  <a:pt x="8458" y="9971"/>
                </a:cubicBezTo>
                <a:cubicBezTo>
                  <a:pt x="8528" y="9985"/>
                  <a:pt x="8613" y="9984"/>
                  <a:pt x="8682" y="9996"/>
                </a:cubicBezTo>
                <a:cubicBezTo>
                  <a:pt x="8734" y="10005"/>
                  <a:pt x="8736" y="9983"/>
                  <a:pt x="8756" y="9971"/>
                </a:cubicBezTo>
                <a:cubicBezTo>
                  <a:pt x="8781" y="9971"/>
                  <a:pt x="8789" y="9971"/>
                  <a:pt x="8756" y="9971"/>
                </a:cubicBezTo>
              </a:path>
              <a:path w="7170" h="4788">
                <a:moveTo>
                  <a:pt x="1910" y="7541"/>
                </a:moveTo>
                <a:cubicBezTo>
                  <a:pt x="1890" y="7606"/>
                  <a:pt x="1859" y="7671"/>
                  <a:pt x="1836" y="7739"/>
                </a:cubicBezTo>
                <a:cubicBezTo>
                  <a:pt x="1800" y="7847"/>
                  <a:pt x="1749" y="7973"/>
                  <a:pt x="1736" y="8086"/>
                </a:cubicBezTo>
                <a:cubicBezTo>
                  <a:pt x="1707" y="8342"/>
                  <a:pt x="1651" y="8597"/>
                  <a:pt x="1637" y="8855"/>
                </a:cubicBezTo>
                <a:cubicBezTo>
                  <a:pt x="1626" y="9060"/>
                  <a:pt x="1596" y="9268"/>
                  <a:pt x="1612" y="9475"/>
                </a:cubicBezTo>
                <a:cubicBezTo>
                  <a:pt x="1630" y="9709"/>
                  <a:pt x="1655" y="9918"/>
                  <a:pt x="1712" y="10145"/>
                </a:cubicBezTo>
                <a:cubicBezTo>
                  <a:pt x="1767" y="10365"/>
                  <a:pt x="1808" y="10637"/>
                  <a:pt x="1910" y="10840"/>
                </a:cubicBezTo>
                <a:cubicBezTo>
                  <a:pt x="2017" y="11054"/>
                  <a:pt x="2149" y="11259"/>
                  <a:pt x="2282" y="11460"/>
                </a:cubicBezTo>
                <a:cubicBezTo>
                  <a:pt x="2413" y="11657"/>
                  <a:pt x="2536" y="11871"/>
                  <a:pt x="2679" y="12055"/>
                </a:cubicBezTo>
                <a:cubicBezTo>
                  <a:pt x="2744" y="12139"/>
                  <a:pt x="2791" y="12218"/>
                  <a:pt x="2853" y="12303"/>
                </a:cubicBezTo>
                <a:cubicBezTo>
                  <a:pt x="2831" y="12269"/>
                  <a:pt x="2816" y="12292"/>
                  <a:pt x="2803" y="12254"/>
                </a:cubicBezTo>
                <a:cubicBezTo>
                  <a:pt x="2786" y="12203"/>
                  <a:pt x="2791" y="12132"/>
                  <a:pt x="2778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27080" y="4276800"/>
            <a:ext cx="152280" cy="295200"/>
          </a:xfrm>
          <a:custGeom>
            <a:avLst/>
            <a:gdLst/>
            <a:ahLst/>
            <a:rect l="l" t="t" r="r" b="b"/>
            <a:pathLst>
              <a:path w="422" h="820">
                <a:moveTo>
                  <a:pt x="2853" y="11881"/>
                </a:moveTo>
                <a:cubicBezTo>
                  <a:pt x="2919" y="11987"/>
                  <a:pt x="2965" y="12044"/>
                  <a:pt x="3051" y="12129"/>
                </a:cubicBezTo>
                <a:cubicBezTo>
                  <a:pt x="3111" y="12189"/>
                  <a:pt x="3183" y="12227"/>
                  <a:pt x="3249" y="12278"/>
                </a:cubicBezTo>
                <a:cubicBezTo>
                  <a:pt x="3285" y="12305"/>
                  <a:pt x="3274" y="12337"/>
                  <a:pt x="3274" y="12378"/>
                </a:cubicBezTo>
                <a:cubicBezTo>
                  <a:pt x="3217" y="12386"/>
                  <a:pt x="3151" y="12413"/>
                  <a:pt x="3101" y="12452"/>
                </a:cubicBezTo>
                <a:cubicBezTo>
                  <a:pt x="3051" y="12491"/>
                  <a:pt x="2961" y="12543"/>
                  <a:pt x="2927" y="12601"/>
                </a:cubicBezTo>
                <a:cubicBezTo>
                  <a:pt x="2904" y="12641"/>
                  <a:pt x="2886" y="12686"/>
                  <a:pt x="2927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4840" y="4081320"/>
            <a:ext cx="1911240" cy="768600"/>
          </a:xfrm>
          <a:custGeom>
            <a:avLst/>
            <a:gdLst/>
            <a:ahLst/>
            <a:rect l="l" t="t" r="r" b="b"/>
            <a:pathLst>
              <a:path w="5309" h="2134">
                <a:moveTo>
                  <a:pt x="3845" y="11336"/>
                </a:moveTo>
                <a:cubicBezTo>
                  <a:pt x="3845" y="11782"/>
                  <a:pt x="3897" y="12265"/>
                  <a:pt x="3820" y="12700"/>
                </a:cubicBezTo>
                <a:cubicBezTo>
                  <a:pt x="3818" y="12710"/>
                  <a:pt x="3820" y="12815"/>
                  <a:pt x="3820" y="12750"/>
                </a:cubicBezTo>
              </a:path>
              <a:path w="5309" h="2134">
                <a:moveTo>
                  <a:pt x="4093" y="12080"/>
                </a:moveTo>
                <a:cubicBezTo>
                  <a:pt x="4136" y="12094"/>
                  <a:pt x="4106" y="12155"/>
                  <a:pt x="4093" y="12204"/>
                </a:cubicBezTo>
                <a:cubicBezTo>
                  <a:pt x="4067" y="12304"/>
                  <a:pt x="4043" y="12373"/>
                  <a:pt x="4043" y="12477"/>
                </a:cubicBezTo>
                <a:cubicBezTo>
                  <a:pt x="4043" y="12571"/>
                  <a:pt x="4037" y="12644"/>
                  <a:pt x="4093" y="12725"/>
                </a:cubicBezTo>
                <a:cubicBezTo>
                  <a:pt x="4130" y="12778"/>
                  <a:pt x="4186" y="12774"/>
                  <a:pt x="4242" y="12774"/>
                </a:cubicBezTo>
                <a:cubicBezTo>
                  <a:pt x="4334" y="12774"/>
                  <a:pt x="4358" y="12732"/>
                  <a:pt x="4390" y="12650"/>
                </a:cubicBezTo>
                <a:cubicBezTo>
                  <a:pt x="4423" y="12565"/>
                  <a:pt x="4458" y="12471"/>
                  <a:pt x="4440" y="12378"/>
                </a:cubicBezTo>
                <a:cubicBezTo>
                  <a:pt x="4426" y="12305"/>
                  <a:pt x="4381" y="12191"/>
                  <a:pt x="4341" y="12129"/>
                </a:cubicBezTo>
                <a:cubicBezTo>
                  <a:pt x="4298" y="12063"/>
                  <a:pt x="4240" y="12036"/>
                  <a:pt x="4167" y="12030"/>
                </a:cubicBezTo>
                <a:cubicBezTo>
                  <a:pt x="4116" y="12026"/>
                  <a:pt x="4088" y="12092"/>
                  <a:pt x="4068" y="12129"/>
                </a:cubicBezTo>
                <a:cubicBezTo>
                  <a:pt x="4027" y="12205"/>
                  <a:pt x="4043" y="12293"/>
                  <a:pt x="4043" y="12378"/>
                </a:cubicBezTo>
                <a:cubicBezTo>
                  <a:pt x="4043" y="12394"/>
                  <a:pt x="4043" y="12411"/>
                  <a:pt x="4043" y="12427"/>
                </a:cubicBezTo>
              </a:path>
              <a:path w="5309" h="2134">
                <a:moveTo>
                  <a:pt x="4738" y="12303"/>
                </a:moveTo>
                <a:cubicBezTo>
                  <a:pt x="4779" y="12203"/>
                  <a:pt x="4811" y="12152"/>
                  <a:pt x="4787" y="12055"/>
                </a:cubicBezTo>
                <a:cubicBezTo>
                  <a:pt x="4698" y="12066"/>
                  <a:pt x="4665" y="12102"/>
                  <a:pt x="4614" y="12179"/>
                </a:cubicBezTo>
                <a:cubicBezTo>
                  <a:pt x="4566" y="12252"/>
                  <a:pt x="4542" y="12343"/>
                  <a:pt x="4539" y="12427"/>
                </a:cubicBezTo>
                <a:cubicBezTo>
                  <a:pt x="4535" y="12524"/>
                  <a:pt x="4547" y="12587"/>
                  <a:pt x="4589" y="12675"/>
                </a:cubicBezTo>
                <a:cubicBezTo>
                  <a:pt x="4624" y="12749"/>
                  <a:pt x="4674" y="12790"/>
                  <a:pt x="4762" y="12774"/>
                </a:cubicBezTo>
                <a:cubicBezTo>
                  <a:pt x="4832" y="12761"/>
                  <a:pt x="4851" y="12698"/>
                  <a:pt x="4887" y="12650"/>
                </a:cubicBezTo>
                <a:cubicBezTo>
                  <a:pt x="4915" y="12613"/>
                  <a:pt x="4945" y="12528"/>
                  <a:pt x="4936" y="12477"/>
                </a:cubicBezTo>
                <a:cubicBezTo>
                  <a:pt x="4927" y="12424"/>
                  <a:pt x="4905" y="12400"/>
                  <a:pt x="4887" y="12378"/>
                </a:cubicBezTo>
                <a:cubicBezTo>
                  <a:pt x="4887" y="12443"/>
                  <a:pt x="4870" y="12492"/>
                  <a:pt x="4862" y="12551"/>
                </a:cubicBezTo>
                <a:cubicBezTo>
                  <a:pt x="4840" y="12721"/>
                  <a:pt x="4854" y="12902"/>
                  <a:pt x="4837" y="13072"/>
                </a:cubicBezTo>
                <a:cubicBezTo>
                  <a:pt x="4825" y="13193"/>
                  <a:pt x="4806" y="13326"/>
                  <a:pt x="4713" y="13419"/>
                </a:cubicBezTo>
                <a:cubicBezTo>
                  <a:pt x="4670" y="13461"/>
                  <a:pt x="4572" y="13485"/>
                  <a:pt x="4514" y="13469"/>
                </a:cubicBezTo>
                <a:cubicBezTo>
                  <a:pt x="4470" y="13457"/>
                  <a:pt x="4394" y="13434"/>
                  <a:pt x="4366" y="13395"/>
                </a:cubicBezTo>
                <a:cubicBezTo>
                  <a:pt x="4331" y="13346"/>
                  <a:pt x="4360" y="13324"/>
                  <a:pt x="4390" y="13271"/>
                </a:cubicBezTo>
              </a:path>
              <a:path w="5309" h="2134">
                <a:moveTo>
                  <a:pt x="5283" y="12849"/>
                </a:moveTo>
                <a:cubicBezTo>
                  <a:pt x="5283" y="12793"/>
                  <a:pt x="5274" y="12771"/>
                  <a:pt x="5259" y="12725"/>
                </a:cubicBezTo>
                <a:cubicBezTo>
                  <a:pt x="5250" y="12698"/>
                  <a:pt x="5240" y="12679"/>
                  <a:pt x="5209" y="12675"/>
                </a:cubicBezTo>
                <a:cubicBezTo>
                  <a:pt x="5157" y="12669"/>
                  <a:pt x="5150" y="12732"/>
                  <a:pt x="5110" y="12750"/>
                </a:cubicBezTo>
                <a:cubicBezTo>
                  <a:pt x="5088" y="12760"/>
                  <a:pt x="5071" y="12790"/>
                  <a:pt x="5060" y="12824"/>
                </a:cubicBezTo>
                <a:cubicBezTo>
                  <a:pt x="5048" y="12861"/>
                  <a:pt x="5101" y="12933"/>
                  <a:pt x="5135" y="12948"/>
                </a:cubicBezTo>
                <a:cubicBezTo>
                  <a:pt x="5186" y="12971"/>
                  <a:pt x="5199" y="12914"/>
                  <a:pt x="5234" y="12898"/>
                </a:cubicBezTo>
                <a:cubicBezTo>
                  <a:pt x="5267" y="12883"/>
                  <a:pt x="5258" y="12798"/>
                  <a:pt x="5283" y="12824"/>
                </a:cubicBezTo>
                <a:cubicBezTo>
                  <a:pt x="5305" y="12847"/>
                  <a:pt x="5261" y="12902"/>
                  <a:pt x="5259" y="12923"/>
                </a:cubicBezTo>
                <a:cubicBezTo>
                  <a:pt x="5252" y="12985"/>
                  <a:pt x="5280" y="13014"/>
                  <a:pt x="5283" y="13072"/>
                </a:cubicBezTo>
                <a:cubicBezTo>
                  <a:pt x="5287" y="13135"/>
                  <a:pt x="5308" y="13353"/>
                  <a:pt x="5259" y="13370"/>
                </a:cubicBezTo>
                <a:cubicBezTo>
                  <a:pt x="5278" y="13310"/>
                  <a:pt x="5268" y="13382"/>
                  <a:pt x="5283" y="13320"/>
                </a:cubicBezTo>
                <a:cubicBezTo>
                  <a:pt x="5283" y="13312"/>
                  <a:pt x="5283" y="13303"/>
                  <a:pt x="5283" y="13295"/>
                </a:cubicBezTo>
              </a:path>
              <a:path w="5309" h="2134">
                <a:moveTo>
                  <a:pt x="5655" y="11832"/>
                </a:moveTo>
                <a:cubicBezTo>
                  <a:pt x="5655" y="11840"/>
                  <a:pt x="5655" y="11849"/>
                  <a:pt x="5655" y="11857"/>
                </a:cubicBezTo>
                <a:cubicBezTo>
                  <a:pt x="5655" y="11821"/>
                  <a:pt x="5669" y="11841"/>
                  <a:pt x="5680" y="11807"/>
                </a:cubicBezTo>
                <a:cubicBezTo>
                  <a:pt x="5694" y="11765"/>
                  <a:pt x="5680" y="11720"/>
                  <a:pt x="5705" y="11683"/>
                </a:cubicBezTo>
                <a:cubicBezTo>
                  <a:pt x="5732" y="11642"/>
                  <a:pt x="5733" y="11625"/>
                  <a:pt x="5779" y="11609"/>
                </a:cubicBezTo>
                <a:cubicBezTo>
                  <a:pt x="5844" y="11586"/>
                  <a:pt x="5857" y="11665"/>
                  <a:pt x="5879" y="11708"/>
                </a:cubicBezTo>
                <a:cubicBezTo>
                  <a:pt x="5923" y="11796"/>
                  <a:pt x="5928" y="11860"/>
                  <a:pt x="5928" y="11956"/>
                </a:cubicBezTo>
                <a:cubicBezTo>
                  <a:pt x="5928" y="12076"/>
                  <a:pt x="5938" y="12188"/>
                  <a:pt x="5904" y="12303"/>
                </a:cubicBezTo>
                <a:cubicBezTo>
                  <a:pt x="5873" y="12410"/>
                  <a:pt x="5836" y="12475"/>
                  <a:pt x="5779" y="12551"/>
                </a:cubicBezTo>
                <a:cubicBezTo>
                  <a:pt x="5734" y="12613"/>
                  <a:pt x="5709" y="12644"/>
                  <a:pt x="5631" y="12650"/>
                </a:cubicBezTo>
                <a:cubicBezTo>
                  <a:pt x="5566" y="12655"/>
                  <a:pt x="5550" y="12645"/>
                  <a:pt x="5507" y="12601"/>
                </a:cubicBezTo>
                <a:cubicBezTo>
                  <a:pt x="5470" y="12564"/>
                  <a:pt x="5482" y="12529"/>
                  <a:pt x="5482" y="12477"/>
                </a:cubicBezTo>
                <a:cubicBezTo>
                  <a:pt x="5482" y="12425"/>
                  <a:pt x="5556" y="12384"/>
                  <a:pt x="5606" y="12402"/>
                </a:cubicBezTo>
                <a:cubicBezTo>
                  <a:pt x="5654" y="12419"/>
                  <a:pt x="5702" y="12492"/>
                  <a:pt x="5730" y="12526"/>
                </a:cubicBezTo>
                <a:cubicBezTo>
                  <a:pt x="5772" y="12576"/>
                  <a:pt x="5833" y="12662"/>
                  <a:pt x="5854" y="12725"/>
                </a:cubicBezTo>
                <a:cubicBezTo>
                  <a:pt x="5875" y="12789"/>
                  <a:pt x="5920" y="12733"/>
                  <a:pt x="5953" y="12700"/>
                </a:cubicBezTo>
              </a:path>
              <a:path w="5309" h="2134">
                <a:moveTo>
                  <a:pt x="6127" y="11782"/>
                </a:moveTo>
                <a:cubicBezTo>
                  <a:pt x="6150" y="11844"/>
                  <a:pt x="6157" y="11897"/>
                  <a:pt x="6127" y="11956"/>
                </a:cubicBezTo>
                <a:cubicBezTo>
                  <a:pt x="6101" y="12007"/>
                  <a:pt x="6102" y="12042"/>
                  <a:pt x="6102" y="12105"/>
                </a:cubicBezTo>
                <a:cubicBezTo>
                  <a:pt x="6102" y="12164"/>
                  <a:pt x="6137" y="12214"/>
                  <a:pt x="6201" y="12229"/>
                </a:cubicBezTo>
                <a:cubicBezTo>
                  <a:pt x="6253" y="12241"/>
                  <a:pt x="6286" y="12227"/>
                  <a:pt x="6325" y="12204"/>
                </a:cubicBezTo>
              </a:path>
              <a:path w="5309" h="2134">
                <a:moveTo>
                  <a:pt x="6400" y="11609"/>
                </a:moveTo>
                <a:cubicBezTo>
                  <a:pt x="6371" y="11686"/>
                  <a:pt x="6375" y="11747"/>
                  <a:pt x="6375" y="11832"/>
                </a:cubicBezTo>
                <a:cubicBezTo>
                  <a:pt x="6375" y="11973"/>
                  <a:pt x="6371" y="12139"/>
                  <a:pt x="6350" y="12278"/>
                </a:cubicBezTo>
                <a:cubicBezTo>
                  <a:pt x="6333" y="12396"/>
                  <a:pt x="6325" y="12502"/>
                  <a:pt x="6325" y="12626"/>
                </a:cubicBezTo>
                <a:cubicBezTo>
                  <a:pt x="6325" y="12667"/>
                  <a:pt x="6325" y="12758"/>
                  <a:pt x="6350" y="12725"/>
                </a:cubicBezTo>
                <a:cubicBezTo>
                  <a:pt x="6350" y="12700"/>
                  <a:pt x="6350" y="12692"/>
                  <a:pt x="6350" y="12675"/>
                </a:cubicBezTo>
              </a:path>
              <a:path w="5309" h="2134">
                <a:moveTo>
                  <a:pt x="6573" y="11832"/>
                </a:moveTo>
                <a:cubicBezTo>
                  <a:pt x="6626" y="11805"/>
                  <a:pt x="6752" y="11726"/>
                  <a:pt x="6821" y="11733"/>
                </a:cubicBezTo>
                <a:cubicBezTo>
                  <a:pt x="6857" y="11736"/>
                  <a:pt x="6952" y="11773"/>
                  <a:pt x="6970" y="11807"/>
                </a:cubicBezTo>
                <a:cubicBezTo>
                  <a:pt x="7012" y="11886"/>
                  <a:pt x="6997" y="11941"/>
                  <a:pt x="6945" y="12005"/>
                </a:cubicBezTo>
                <a:cubicBezTo>
                  <a:pt x="6894" y="12067"/>
                  <a:pt x="6853" y="12102"/>
                  <a:pt x="6796" y="12154"/>
                </a:cubicBezTo>
                <a:cubicBezTo>
                  <a:pt x="6762" y="12185"/>
                  <a:pt x="6730" y="12221"/>
                  <a:pt x="6697" y="12254"/>
                </a:cubicBezTo>
                <a:cubicBezTo>
                  <a:pt x="6720" y="12246"/>
                  <a:pt x="6745" y="12245"/>
                  <a:pt x="6772" y="12229"/>
                </a:cubicBezTo>
                <a:cubicBezTo>
                  <a:pt x="6817" y="12203"/>
                  <a:pt x="6837" y="12204"/>
                  <a:pt x="6896" y="12204"/>
                </a:cubicBezTo>
                <a:cubicBezTo>
                  <a:pt x="6931" y="12204"/>
                  <a:pt x="6975" y="12248"/>
                  <a:pt x="6995" y="12278"/>
                </a:cubicBezTo>
                <a:cubicBezTo>
                  <a:pt x="7037" y="12342"/>
                  <a:pt x="7020" y="12429"/>
                  <a:pt x="7020" y="12502"/>
                </a:cubicBezTo>
                <a:cubicBezTo>
                  <a:pt x="7020" y="12570"/>
                  <a:pt x="6983" y="12643"/>
                  <a:pt x="6945" y="12700"/>
                </a:cubicBezTo>
                <a:cubicBezTo>
                  <a:pt x="6908" y="12754"/>
                  <a:pt x="6830" y="12770"/>
                  <a:pt x="6772" y="12774"/>
                </a:cubicBezTo>
                <a:cubicBezTo>
                  <a:pt x="6722" y="12778"/>
                  <a:pt x="6688" y="12767"/>
                  <a:pt x="6648" y="12750"/>
                </a:cubicBezTo>
                <a:cubicBezTo>
                  <a:pt x="6566" y="12715"/>
                  <a:pt x="6601" y="12697"/>
                  <a:pt x="6648" y="12650"/>
                </a:cubicBezTo>
              </a:path>
              <a:path w="5309" h="2134">
                <a:moveTo>
                  <a:pt x="7392" y="12129"/>
                </a:moveTo>
                <a:cubicBezTo>
                  <a:pt x="7448" y="12125"/>
                  <a:pt x="7560" y="12126"/>
                  <a:pt x="7615" y="12105"/>
                </a:cubicBezTo>
                <a:cubicBezTo>
                  <a:pt x="7623" y="12097"/>
                  <a:pt x="7632" y="12088"/>
                  <a:pt x="7640" y="12080"/>
                </a:cubicBezTo>
              </a:path>
              <a:path w="5309" h="2134">
                <a:moveTo>
                  <a:pt x="7367" y="12427"/>
                </a:moveTo>
                <a:cubicBezTo>
                  <a:pt x="7478" y="12468"/>
                  <a:pt x="7506" y="12466"/>
                  <a:pt x="7615" y="12452"/>
                </a:cubicBezTo>
                <a:cubicBezTo>
                  <a:pt x="7681" y="12452"/>
                  <a:pt x="7698" y="12452"/>
                  <a:pt x="7739" y="12452"/>
                </a:cubicBezTo>
              </a:path>
              <a:path w="5309" h="2134">
                <a:moveTo>
                  <a:pt x="8136" y="11683"/>
                </a:moveTo>
                <a:cubicBezTo>
                  <a:pt x="8220" y="11683"/>
                  <a:pt x="8316" y="11699"/>
                  <a:pt x="8384" y="11658"/>
                </a:cubicBezTo>
              </a:path>
              <a:path w="5309" h="2134">
                <a:moveTo>
                  <a:pt x="8037" y="11683"/>
                </a:moveTo>
                <a:cubicBezTo>
                  <a:pt x="8006" y="11740"/>
                  <a:pt x="7911" y="11816"/>
                  <a:pt x="7962" y="11857"/>
                </a:cubicBezTo>
                <a:cubicBezTo>
                  <a:pt x="7985" y="11875"/>
                  <a:pt x="7995" y="11881"/>
                  <a:pt x="8037" y="11881"/>
                </a:cubicBezTo>
                <a:cubicBezTo>
                  <a:pt x="8092" y="11881"/>
                  <a:pt x="8119" y="11897"/>
                  <a:pt x="8161" y="11906"/>
                </a:cubicBezTo>
                <a:cubicBezTo>
                  <a:pt x="8219" y="11919"/>
                  <a:pt x="8267" y="11931"/>
                  <a:pt x="8285" y="12005"/>
                </a:cubicBezTo>
                <a:cubicBezTo>
                  <a:pt x="8297" y="12057"/>
                  <a:pt x="8290" y="12134"/>
                  <a:pt x="8260" y="12179"/>
                </a:cubicBezTo>
                <a:cubicBezTo>
                  <a:pt x="8232" y="12221"/>
                  <a:pt x="8185" y="12251"/>
                  <a:pt x="8136" y="12254"/>
                </a:cubicBezTo>
                <a:cubicBezTo>
                  <a:pt x="8082" y="12258"/>
                  <a:pt x="8025" y="12238"/>
                  <a:pt x="7987" y="12204"/>
                </a:cubicBezTo>
                <a:cubicBezTo>
                  <a:pt x="7948" y="12169"/>
                  <a:pt x="7962" y="12129"/>
                  <a:pt x="7962" y="12080"/>
                </a:cubicBezTo>
              </a:path>
              <a:path w="5309" h="2134">
                <a:moveTo>
                  <a:pt x="8582" y="11733"/>
                </a:moveTo>
                <a:cubicBezTo>
                  <a:pt x="8550" y="11889"/>
                  <a:pt x="8490" y="11987"/>
                  <a:pt x="8434" y="12129"/>
                </a:cubicBezTo>
                <a:cubicBezTo>
                  <a:pt x="8388" y="12245"/>
                  <a:pt x="8359" y="12363"/>
                  <a:pt x="8310" y="12477"/>
                </a:cubicBezTo>
                <a:cubicBezTo>
                  <a:pt x="8276" y="12557"/>
                  <a:pt x="8228" y="12666"/>
                  <a:pt x="8210" y="12750"/>
                </a:cubicBezTo>
                <a:cubicBezTo>
                  <a:pt x="8199" y="12800"/>
                  <a:pt x="8136" y="12908"/>
                  <a:pt x="8186" y="12898"/>
                </a:cubicBezTo>
                <a:cubicBezTo>
                  <a:pt x="8194" y="12890"/>
                  <a:pt x="8202" y="12882"/>
                  <a:pt x="8210" y="12874"/>
                </a:cubicBezTo>
              </a:path>
              <a:path w="5309" h="2134">
                <a:moveTo>
                  <a:pt x="8458" y="12551"/>
                </a:moveTo>
                <a:cubicBezTo>
                  <a:pt x="8521" y="12493"/>
                  <a:pt x="8600" y="12386"/>
                  <a:pt x="8706" y="12427"/>
                </a:cubicBezTo>
                <a:cubicBezTo>
                  <a:pt x="8757" y="12447"/>
                  <a:pt x="8774" y="12530"/>
                  <a:pt x="8756" y="12576"/>
                </a:cubicBezTo>
                <a:cubicBezTo>
                  <a:pt x="8732" y="12638"/>
                  <a:pt x="8679" y="12686"/>
                  <a:pt x="8632" y="12725"/>
                </a:cubicBezTo>
                <a:cubicBezTo>
                  <a:pt x="8606" y="12747"/>
                  <a:pt x="8540" y="12812"/>
                  <a:pt x="8533" y="12824"/>
                </a:cubicBezTo>
                <a:cubicBezTo>
                  <a:pt x="8512" y="12861"/>
                  <a:pt x="8588" y="12912"/>
                  <a:pt x="8607" y="12923"/>
                </a:cubicBezTo>
                <a:cubicBezTo>
                  <a:pt x="8705" y="12978"/>
                  <a:pt x="8801" y="12997"/>
                  <a:pt x="8905" y="13022"/>
                </a:cubicBezTo>
                <a:cubicBezTo>
                  <a:pt x="8984" y="13041"/>
                  <a:pt x="9046" y="13047"/>
                  <a:pt x="9128" y="130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0:00Z</dcterms:created>
  <dc:creator>jnewman</dc:creator>
  <dc:description/>
  <dc:language>en-US</dc:language>
  <cp:lastModifiedBy>abeason</cp:lastModifiedBy>
  <dcterms:modified xsi:type="dcterms:W3CDTF">2009-06-02T17:19:02Z</dcterms:modified>
  <cp:revision>8</cp:revision>
  <dc:subject/>
  <dc:title>Lesson 3.2</dc:title>
</cp:coreProperties>
</file>